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829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1920" y="3536280"/>
            <a:ext cx="829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192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7040" y="94932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94932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1920" y="353628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7040" y="353628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53628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21920" y="949320"/>
            <a:ext cx="8296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8296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2192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21920" y="949320"/>
            <a:ext cx="8296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280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1920" y="3536280"/>
            <a:ext cx="829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829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1920" y="3536280"/>
            <a:ext cx="829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2192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280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7040" y="94932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2160" y="94932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1920" y="353628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7040" y="353628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2160" y="353628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8296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192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1920" y="3536280"/>
            <a:ext cx="829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21920" y="949320"/>
            <a:ext cx="8296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125"/>
              </a:spcBef>
              <a:buClr>
                <a:srgbClr val="0033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343080">
              <a:spcBef>
                <a:spcPts val="11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1125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1125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76320" y="6456240"/>
          <a:ext cx="1523880" cy="35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6456240"/>
                    <a:ext cx="152388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475120" y="6496200"/>
            <a:ext cx="980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3238-AEEF-464A-8796-CD1FF42C6101}" type="slidenum">
              <a:rPr b="1" lang="it-IT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4640" y="2448000"/>
            <a:ext cx="54882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620640"/>
            <a:ext cx="8089920" cy="89208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6440" y="2662200"/>
            <a:ext cx="74181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300" spc="-1" strike="noStrike">
                <a:solidFill>
                  <a:srgbClr val="000000"/>
                </a:solidFill>
                <a:latin typeface="Arial"/>
                <a:ea typeface="Arial"/>
              </a:rPr>
              <a:t>Utilizzo del fair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value</a:t>
            </a:r>
            <a:r>
              <a:rPr b="1" lang="it-IT" sz="3300" spc="-1" strike="noStrike">
                <a:solidFill>
                  <a:srgbClr val="000000"/>
                </a:solidFill>
                <a:latin typeface="Arial"/>
                <a:ea typeface="Arial"/>
              </a:rPr>
              <a:t> e sue implicazioni pratiche</a:t>
            </a:r>
            <a:br>
              <a:rPr sz="3300"/>
            </a:b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9000" y="3733920"/>
            <a:ext cx="7848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Direttore Generale Gruppo Pirel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Convegno OIC – 6 Ottobre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5040" y="3527280"/>
            <a:ext cx="3938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Claudio De C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609480"/>
            <a:ext cx="5410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3960" y="1727280"/>
            <a:ext cx="7683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Arial"/>
              </a:rPr>
              <a:t>Gli IFRS impongono / consentono l’uso del fair value nelle valutazioni delle poste di bilancio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8176200">
            <a:off x="2336400" y="2793240"/>
            <a:ext cx="558720" cy="304920"/>
          </a:xfrm>
          <a:prstGeom prst="rightArrow">
            <a:avLst>
              <a:gd name="adj1" fmla="val 50000"/>
              <a:gd name="adj2" fmla="val 4580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2653800">
            <a:off x="5665320" y="2770200"/>
            <a:ext cx="559080" cy="304920"/>
          </a:xfrm>
          <a:prstGeom prst="rightArrow">
            <a:avLst>
              <a:gd name="adj1" fmla="val 50000"/>
              <a:gd name="adj2" fmla="val 458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3800" y="3724200"/>
            <a:ext cx="3530520" cy="1130400"/>
          </a:xfrm>
          <a:prstGeom prst="rect">
            <a:avLst/>
          </a:prstGeom>
          <a:solidFill>
            <a:srgbClr val="ffffff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nell’applicazione degli IFRS a regi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0640"/>
            <a:ext cx="8369280" cy="89208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92680" y="3713040"/>
            <a:ext cx="3746520" cy="1181160"/>
          </a:xfrm>
          <a:prstGeom prst="rect">
            <a:avLst/>
          </a:prstGeom>
          <a:solidFill>
            <a:srgbClr val="ffffff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al momento della transizione agli IF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609480"/>
            <a:ext cx="5410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3960" y="1727280"/>
            <a:ext cx="7683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Arial"/>
              </a:rPr>
              <a:t>Gli IFRS impongono / consentono l’uso del fair value nelle valutazioni delle poste di bilanci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Arial"/>
              </a:rPr>
              <a:t>Esempi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8176200">
            <a:off x="2336400" y="2793240"/>
            <a:ext cx="558720" cy="304920"/>
          </a:xfrm>
          <a:prstGeom prst="rightArrow">
            <a:avLst>
              <a:gd name="adj1" fmla="val 50000"/>
              <a:gd name="adj2" fmla="val 4580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653800">
            <a:off x="5665320" y="2770200"/>
            <a:ext cx="559080" cy="304920"/>
          </a:xfrm>
          <a:prstGeom prst="rightArrow">
            <a:avLst>
              <a:gd name="adj1" fmla="val 50000"/>
              <a:gd name="adj2" fmla="val 458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1960" y="3546360"/>
            <a:ext cx="3530520" cy="2845080"/>
          </a:xfrm>
          <a:prstGeom prst="rect">
            <a:avLst/>
          </a:prstGeom>
          <a:solidFill>
            <a:srgbClr val="ffffff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usiness comb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sale inve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ssets/liabilities at fair value through profit or loss 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. derivati, titol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eld for trad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assets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B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3120"/>
            <a:ext cx="8369280" cy="89244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93000"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Il fair value nell’applicazione degli IFRS a reg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44200" y="3160800"/>
            <a:ext cx="2055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 u="sng">
                <a:solidFill>
                  <a:srgbClr val="000000"/>
                </a:solidFill>
                <a:uFillTx/>
                <a:latin typeface="Arial"/>
              </a:rPr>
              <a:t>OBBLIGATOR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36440" y="3251160"/>
            <a:ext cx="1895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 u="sng">
                <a:solidFill>
                  <a:srgbClr val="000000"/>
                </a:solidFill>
                <a:uFillTx/>
                <a:latin typeface="Arial"/>
              </a:rPr>
              <a:t>FACOLTA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92680" y="3713040"/>
            <a:ext cx="3746520" cy="2374920"/>
          </a:xfrm>
          <a:prstGeom prst="rect">
            <a:avLst/>
          </a:prstGeom>
          <a:solidFill>
            <a:srgbClr val="ffffff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y, Plant and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angible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vestimenti Immobil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l’impairment test come possibile configurazione del valore recuper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165240" y="1714320"/>
            <a:ext cx="86234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00"/>
                </a:solidFill>
                <a:latin typeface="Arial"/>
              </a:rPr>
              <a:t>In sede di transizione agli IFRS, in aggiunta a quanto già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00"/>
                </a:solidFill>
                <a:latin typeface="Arial"/>
              </a:rPr>
              <a:t>evidenziato prima, IFRS fanno riferimento al fair value nei seguenti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00"/>
                </a:solidFill>
                <a:latin typeface="Arial"/>
              </a:rPr>
              <a:t>principali casi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le business combination </a:t>
            </a: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passate possono non essere riaperte, evitando così la complessità della rideterminazione del fair value di operazioni passat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si può scegliere di valutare le immobilizzazioni materiali al fair value e utilizzare tale valore come sostituto del costo alla data di transizion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…………</a:t>
            </a: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79440"/>
            <a:ext cx="8369280" cy="89208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Il fair value alla data di transi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165240" y="1714320"/>
            <a:ext cx="86234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79440"/>
            <a:ext cx="8369280" cy="89208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Modalità di determinazione del fair val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39960" y="2389320"/>
            <a:ext cx="568080" cy="349200"/>
          </a:xfrm>
          <a:prstGeom prst="rightArrow">
            <a:avLst>
              <a:gd name="adj1" fmla="val 50000"/>
              <a:gd name="adj2" fmla="val 406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3600" y="3621240"/>
            <a:ext cx="576360" cy="365040"/>
          </a:xfrm>
          <a:prstGeom prst="rightArrow">
            <a:avLst>
              <a:gd name="adj1" fmla="val 50000"/>
              <a:gd name="adj2" fmla="val 3947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8040" y="2171880"/>
            <a:ext cx="665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25a41"/>
                </a:solidFill>
                <a:latin typeface="Arial"/>
              </a:rPr>
              <a:t>In presenza di un mercato attivo =&gt; quotazioni di mercato uffic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92160" y="3645000"/>
            <a:ext cx="67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25a41"/>
                </a:solidFill>
                <a:latin typeface="Arial"/>
              </a:rPr>
              <a:t>Se mercato non è attivo =&gt; tecniche di valu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5120" y="4102200"/>
            <a:ext cx="1676160" cy="71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73520" y="4140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51560" y="4114800"/>
            <a:ext cx="109224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5016600"/>
            <a:ext cx="221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25a41"/>
                </a:solidFill>
                <a:latin typeface="Arial"/>
              </a:rPr>
              <a:t>Multipli delle transazioni e delle società comparabi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440" y="4952880"/>
            <a:ext cx="2247840" cy="9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48040" y="5092560"/>
            <a:ext cx="16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a41"/>
                </a:solidFill>
                <a:latin typeface="Arial"/>
              </a:rPr>
              <a:t>Discounted cash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87720" y="4927680"/>
            <a:ext cx="1435320" cy="92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62640" y="5168880"/>
            <a:ext cx="22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25a4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a41"/>
                </a:solidFill>
                <a:latin typeface="Arial"/>
              </a:rPr>
              <a:t>Option pricing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51560" y="4991040"/>
            <a:ext cx="2108160" cy="7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165240" y="1193760"/>
            <a:ext cx="86234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Partecipazioni quotate (non controllate o collegate) adeguate ai valori di Bors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I piani di stock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options</a:t>
            </a: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 devono essere valutati a fair value 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Il valore di mercato degli investimenti in titoli dei fondi pensione deve essere riconosciuto in bilancio (se si tratta di “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defined</a:t>
            </a: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 benefit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plans</a:t>
            </a: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”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Tutti i derivati devono essere valutati a fair valu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876"/>
              </a:spcBef>
              <a:spcAft>
                <a:spcPts val="524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Arial"/>
              </a:rPr>
              <a:t>a equity se in “hedge accounting”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876"/>
              </a:spcBef>
              <a:spcAft>
                <a:spcPts val="524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Arial"/>
              </a:rPr>
              <a:t>a </a:t>
            </a:r>
            <a:r>
              <a:rPr b="0" lang="it-IT" sz="1400" spc="-1" strike="noStrike">
                <a:solidFill>
                  <a:srgbClr val="003300"/>
                </a:solidFill>
                <a:latin typeface="Arial"/>
              </a:rPr>
              <a:t>conto economico</a:t>
            </a:r>
            <a:r>
              <a:rPr b="0" lang="en-GB" sz="1400" spc="-1" strike="noStrike">
                <a:solidFill>
                  <a:srgbClr val="003300"/>
                </a:solidFill>
                <a:latin typeface="Arial"/>
              </a:rPr>
              <a:t> se “hedge accounting” non è </a:t>
            </a:r>
            <a:r>
              <a:rPr b="0" lang="it-IT" sz="1400" spc="-1" strike="noStrike">
                <a:solidFill>
                  <a:srgbClr val="003300"/>
                </a:solidFill>
                <a:latin typeface="Arial"/>
              </a:rPr>
              <a:t>adottat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Tipologie di derivati: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876"/>
              </a:spcBef>
              <a:spcAft>
                <a:spcPts val="524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00"/>
                </a:solidFill>
                <a:latin typeface="Arial"/>
              </a:rPr>
              <a:t>Acquisti / vendite di valuta a termine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876"/>
              </a:spcBef>
              <a:spcAft>
                <a:spcPts val="524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Arial"/>
              </a:rPr>
              <a:t>Interest rate swap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876"/>
              </a:spcBef>
              <a:spcAft>
                <a:spcPts val="524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00"/>
                </a:solidFill>
                <a:latin typeface="Arial"/>
              </a:rPr>
              <a:t>Opzioni su titoli / valute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876"/>
              </a:spcBef>
              <a:spcAft>
                <a:spcPts val="524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Arial"/>
              </a:rPr>
              <a:t>Futures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………………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77920"/>
            <a:ext cx="8369280" cy="89208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Fair value: esempi di applicazioni prati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165240" y="1460160"/>
            <a:ext cx="86234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L’utilizzo del fair value migliora la comparabilità e aumenta la rilevanza dell’informazion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Potenziale aumento della volatilità dei risultati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Necessario dotarsi di strumenti di valutazione adeguati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Nuove competenze richieste al redattore del bilancio IFRS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112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=&gt; formazion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Gli stessi IFRS tuttavia ne limitano l’utilizzo se di difficile applicazione. Esempi: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spcAft>
                <a:spcPts val="601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00"/>
                </a:solidFill>
                <a:latin typeface="Arial"/>
              </a:rPr>
              <a:t>Per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intangibles</a:t>
            </a:r>
            <a:r>
              <a:rPr b="0" lang="it-IT" sz="1600" spc="-1" strike="noStrike">
                <a:solidFill>
                  <a:srgbClr val="003300"/>
                </a:solidFill>
                <a:latin typeface="Arial"/>
              </a:rPr>
              <a:t> =&gt; solo in presenza di un mercato attivo</a:t>
            </a:r>
            <a:r>
              <a:rPr b="0" lang="en-GB" sz="1600" spc="-1" strike="noStrike">
                <a:solidFill>
                  <a:srgbClr val="003300"/>
                </a:solidFill>
                <a:latin typeface="Arial"/>
              </a:rPr>
              <a:t> (</a:t>
            </a:r>
            <a:r>
              <a:rPr b="0" lang="it-IT" sz="1600" spc="-1" strike="noStrike">
                <a:solidFill>
                  <a:srgbClr val="003300"/>
                </a:solidFill>
                <a:latin typeface="Arial"/>
              </a:rPr>
              <a:t>raro</a:t>
            </a:r>
            <a:r>
              <a:rPr b="0" lang="en-GB" sz="16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spcAft>
                <a:spcPts val="601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00"/>
                </a:solidFill>
                <a:latin typeface="Arial"/>
              </a:rPr>
              <a:t>Per </a:t>
            </a:r>
            <a:r>
              <a:rPr b="0" lang="it-IT" sz="1600" spc="-1" strike="noStrike">
                <a:solidFill>
                  <a:srgbClr val="003300"/>
                </a:solidFill>
                <a:latin typeface="Arial"/>
              </a:rPr>
              <a:t>partecipazioni non quotate =&gt; solo se la variabilità del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range</a:t>
            </a:r>
            <a:r>
              <a:rPr b="0" lang="it-IT" sz="1600" spc="-1" strike="noStrike">
                <a:solidFill>
                  <a:srgbClr val="003300"/>
                </a:solidFill>
                <a:latin typeface="Arial"/>
              </a:rPr>
              <a:t> di stima del fair value non è significativo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112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16080"/>
            <a:ext cx="8369280" cy="89208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Conclusio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08:56:29Z</dcterms:created>
  <dc:creator>Enrico Maria Pugliese</dc:creator>
  <dc:description/>
  <dc:language>en-US</dc:language>
  <cp:lastModifiedBy>cristina stacchini</cp:lastModifiedBy>
  <cp:lastPrinted>2001-10-29T15:31:31Z</cp:lastPrinted>
  <dcterms:modified xsi:type="dcterms:W3CDTF">2006-10-05T14:19:51Z</dcterms:modified>
  <cp:revision>1342</cp:revision>
  <dc:subject/>
  <dc:title>Presentazione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67157566</vt:r8>
  </property>
  <property fmtid="{D5CDD505-2E9C-101B-9397-08002B2CF9AE}" pid="3" name="_AuthorEmail">
    <vt:lpwstr>chiara.bontempelli@pirelli.com</vt:lpwstr>
  </property>
  <property fmtid="{D5CDD505-2E9C-101B-9397-08002B2CF9AE}" pid="4" name="_AuthorEmailDisplayName">
    <vt:lpwstr>Bontempelli Chiara, IT</vt:lpwstr>
  </property>
  <property fmtid="{D5CDD505-2E9C-101B-9397-08002B2CF9AE}" pid="5" name="_EmailSubject">
    <vt:lpwstr/>
  </property>
  <property fmtid="{D5CDD505-2E9C-101B-9397-08002B2CF9AE}" pid="6" name="_NewReviewCycle">
    <vt:lpwstr/>
  </property>
  <property fmtid="{D5CDD505-2E9C-101B-9397-08002B2CF9AE}" pid="7" name="_PreviousAdHocReviewCycleID">
    <vt:r8>1429536599</vt:r8>
  </property>
  <property fmtid="{D5CDD505-2E9C-101B-9397-08002B2CF9AE}" pid="8" name="_ReviewingToolsShownOnce">
    <vt:lpwstr/>
  </property>
</Properties>
</file>