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899-727C-45B7-878F-66A4F2B8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8A8-0B0F-4459-A144-E84A8E64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43A-FE8D-4C22-A0F1-B7CC31F2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CE2-BE29-4024-BABF-EAACBEFE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928A-EBB3-459F-A72E-64FC8D9B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933-667F-4E0B-9B58-AE0B185B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CE0-0B0B-46FA-B46F-49F2445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EF3-0267-4955-A8B4-04EC13A6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CBE9-E877-4734-BDE9-80E24022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59D-091D-464B-8B46-5F700F7E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13EC-B7D0-43A9-9462-B9D25E03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48B-D57D-46DF-A0EC-20960B4E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776B-D716-4EDD-B136-42B3E715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8520-8FD9-4693-8530-758A751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EF6-E2C6-4655-B61C-6B985FA5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121B-43D0-4BEF-9664-C50FE1E1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4A6F-45F0-4A14-B438-D4B8BA77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3E6-24C4-4A59-B707-EDCF013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679-1C21-46E2-9BDE-DBC720B2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F28-DAD1-4A2A-AEF0-30BD086D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3F9-D804-4239-9535-EF000B85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D0F-8834-4AF1-B56D-AF2B141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956-C951-408B-BE2C-0440038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437-2B9F-427D-B131-2D51A14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2A2D-F3E9-4E64-A937-622FAE36203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6A8-059C-44F6-BE25-D2C5FB011B2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</a:t>
            </a:r>
            <a:fld id="{AA83642A-5A10-4C2A-9298-C2D8CC03F377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</a:rPr>
              <a:t>I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64274B14-0FFC-42C6-A445-27D9918D309F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1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.  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FAC – Nel 2000: difficoltà estensione IAS fuor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del circuito Società quo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vergenza di tutte le professioni contabi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esi sviluppati ed in via di svilup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ondo anglo-sassone ed europ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C79FFB31-DF19-4B56-ADFA-4509A9399ECB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476280">
              <a:lnSpc>
                <a:spcPct val="25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put da IFAC a IA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AC: SMP Committee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ASB: working group-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05EBD246-D754-4724-B892-FA0351996EC5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 base della scel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st/benef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rs ne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</a:t>
            </a:r>
            <a:fld id="{B004FF80-F80C-4F29-BC0E-D4900385DF19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 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istema contabile derivato o autono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ramework – Pervasive princi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</a:t>
            </a:r>
            <a:fld id="{C9B4F675-C4F0-4927-815B-098229299759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zione di 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mensione – Qualit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IE- NP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ssuna defin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</a:t>
            </a:r>
            <a:fld id="{1982FDE6-0EE8-4CF5-91C6-555BB0A439B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attuali linee gui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die Imprese o Micro-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EFEF635F-B066-442D-8F05-53AA7318DC68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3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nione Europ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A e Can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4B458B43-0E51-408C-A1AB-52F8189BE69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tivo: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: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ggiornam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14:14Z</dcterms:created>
  <dc:creator>ERSE</dc:creator>
  <dc:description/>
  <dc:language>en-US</dc:language>
  <cp:lastModifiedBy>claudia</cp:lastModifiedBy>
  <dcterms:modified xsi:type="dcterms:W3CDTF">2006-10-05T16:14:03Z</dcterms:modified>
  <cp:revision>14</cp:revision>
  <dc:subject/>
  <dc:title>Presentazione di PowerPoint</dc:title>
</cp:coreProperties>
</file>