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907588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08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08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5732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7196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5732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7196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08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22860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08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08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08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08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1" marL="653760" indent="-2512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3" marL="1407960" indent="-20088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4" marL="1810440" indent="-200880">
              <a:spcBef>
                <a:spcPts val="90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8915400" y="617220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1F1C-576A-4772-A24A-E82D8ABB587D}" type="slidenum">
              <a:rPr b="1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247680" y="228600"/>
            <a:ext cx="928800" cy="8287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467160" y="632448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Tahoma"/>
                <a:ea typeface="Tahoma"/>
              </a:rPr>
              <a:t>© 2006 IASC Foundation,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73160" y="533520"/>
            <a:ext cx="842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The IASB Project on Accounting Standards for S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73160" y="2514600"/>
            <a:ext cx="833760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Gilbert G</a:t>
            </a:r>
            <a:r>
              <a:rPr b="1" lang="fr-FR" sz="3600" spc="-1" strike="noStrike">
                <a:solidFill>
                  <a:srgbClr val="00ff00"/>
                </a:solidFill>
                <a:latin typeface="Tahoma"/>
              </a:rPr>
              <a:t>él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IASB Board Me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ome, 6 October 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IASB Approach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320" y="837720"/>
            <a:ext cx="9327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1840" indent="-455400">
              <a:spcBef>
                <a:spcPts val="901"/>
              </a:spcBef>
              <a:buClr>
                <a:srgbClr val="ffffff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Recognition and measurement simplifications, page 2 of 2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2" marL="1246320" indent="-243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Less fair value for agriculture – only if “readily available” fair value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6320" indent="-243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Defined benefit plans – principle approach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6320" indent="-243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Share-based payment – intrinsic value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6320" indent="-243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First-time adoption – less prior data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6320" indent="-243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Component depreciation not required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IASB Approach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066320"/>
            <a:ext cx="9327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ME must try to find answers in SME standard by analogy and by using pervasive principles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ut – SM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must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look to full IFRSs as a “safety net” – if answer cannot be found otherwise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601640" indent="-6094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pected to be rare for typical SME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Other Issues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320" y="1066320"/>
            <a:ext cx="9327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uitability for micro-SMEs (tiny)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Usefulness to managers of SMEs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Usefulness for tax returns and dividend distribution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parate company statements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bined statement of income and retained earnings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urisdiction can eliminate options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mall listed companies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ff00"/>
                </a:solidFill>
                <a:uFillTx/>
                <a:latin typeface="Verdana"/>
              </a:rPr>
              <a:t>Rejected</a:t>
            </a: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 Simplifications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7320" y="1066320"/>
            <a:ext cx="9327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rop the cash flow statement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ll leases operating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ll pension plans defined contribution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ompleted contract only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ewer provisions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n-recognition of share-based payment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n-recognition of deferred taxes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ost model for all agriculture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 consolidation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502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The Effort:  Due Process</a:t>
            </a:r>
            <a:endParaRPr b="1" lang="en-US" sz="32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2920" y="914400"/>
            <a:ext cx="924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Discussion paper on approach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June 2004.  120 comments received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Recognition and measurement (R&amp;M) questionnaire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pril 2005.   101 responses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Public roundtables on R&amp;M. 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ctober 2005.  45 participants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Working Group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ree meeting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January 2006 discussed draft ED two days.  84 recommendations to Board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502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The Effort:  Due Process</a:t>
            </a:r>
            <a:endParaRPr b="1" lang="en-US" sz="32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920" y="914400"/>
            <a:ext cx="924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Discussed with World Standard Setters: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004, 2005, 2006.  Feedback sessions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Discussed with SAC: 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001, 2003, 2004, 2005, 2006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Board deliberations–public meetings: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003 – 4 meeting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004 – 9 meeting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005 – 7 meeting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006 – 7 meetings (so far)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502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The Result: Draft Exposure Draft</a:t>
            </a:r>
            <a:endParaRPr b="1" lang="en-US" sz="32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0240" y="914040"/>
            <a:ext cx="8832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he draft ED now: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ut 220 pag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254240" indent="-262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Full IFRSs now 2,400 pages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rganised by topic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40 section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veloped by considering needs of a company with about 50 employe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odel financial state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sclosure checklis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502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The Result: Draft Exposure Draft</a:t>
            </a:r>
            <a:endParaRPr b="1" lang="en-US" sz="32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0240" y="914040"/>
            <a:ext cx="8832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-32220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Very close to issuance.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Draft posted on IASB website in early August 2006 to: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timulate early thinking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llay concerns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ASB will likely publish translations of ED in Spanish and possibly French as well.  A first!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502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SME Concern: “Maintenance”</a:t>
            </a:r>
            <a:endParaRPr b="1" lang="en-US" sz="32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74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SMEs are worried about frequent updating of IFRS for SMEs: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Board decision: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Update the IFRS for SMEs every 2 years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mnibus Exposure Draft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Next Steps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25480" y="914040"/>
            <a:ext cx="8750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entative dates: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marL="347760" indent="-3477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posure Draft – Q4  2006.  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1" marL="1592280" indent="-39672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x month comment period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592280" indent="-39672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lation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7760" indent="-3477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Field tests and/or visits to SMEs?  Roundtables?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marL="347760" indent="-3477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Final Standard – 2007.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marL="347760" indent="-3477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ffective – 2008 or 2009.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667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Why SME Standards Are Needed</a:t>
            </a:r>
            <a:endParaRPr b="1" lang="en-US" sz="32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9410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45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Benefits of global accounting standards for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listed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companies are obvious in globalised financial markets.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536400" indent="-45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Even for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unlisted SMEs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, financial statements that are understandable across borders are needed: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1" marL="976320" indent="-325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anks make loans across borders and operate multi-nationally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76320" indent="-325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endors from other countries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76320" indent="-325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redit rating agencies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76320" indent="-325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verseas customers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76320" indent="-325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reign venture capital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Questions for WSS Discussion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5480" y="914040"/>
            <a:ext cx="8750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How to get comments on ED from SMEs?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How to get comments on ED from users (lenders, rating agencies, venture capital)?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How can jurisdictions help in field tests/field visits?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ocal or regional round tables?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Other questions you may have?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5531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Verdana"/>
              </a:rPr>
              <a:t>Discussion time – your turn!</a:t>
            </a:r>
            <a:endParaRPr b="1" lang="en-US" sz="54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984400" cy="5943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77800" y="3352680"/>
            <a:ext cx="544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1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PRESSIONS OF INDIVIDUAL VIEWS BY MEMBERS OF THE IASB AND ITS STAFF ARE ENCOURAGED.  THE VIEWS EXPRESSED IN THIS PRESENTATION ARE THOSE OF G. GELARD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OFFICIAL POSITIONS OF THE IASB ON ACCOUNTING MATTERS ARE DETERMINED ONLY AFTER EXTENSIVE DUE PROCESS AND DELIBER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-11160"/>
            <a:ext cx="8610840" cy="6824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3520" y="1828800"/>
            <a:ext cx="8648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IFRS for Small and Medium-sized Entiti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1324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667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Why SME Standards Are Needed</a:t>
            </a:r>
            <a:endParaRPr b="1" lang="en-US" sz="32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838080"/>
            <a:ext cx="924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wo edged-sword for SMEs: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976320" indent="-3254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Good accounting and more disclosu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add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to SME burdens, not reduce them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76320" indent="-3254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MEs often see greater transparency as ‘competitively harmful’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76320" indent="-3254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t the same time, good accounting and disclosure give investor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confidenc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to provide capital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640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Solution: Tailor requirements for SMEs.  This is what the IASB SME project is all about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667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IASB Definition of SME</a:t>
            </a:r>
            <a:endParaRPr b="1" lang="en-US" sz="32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9327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ASB tentative view: 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606600" indent="-208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FRS for SMEs is appropriate for an entity with no public accountability: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17440" indent="-27936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not publicly traded; and 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117440" indent="-27936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not a financial institution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606600" indent="-208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 entity whose securities are publicly traded h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ublic accountability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17440" indent="-27936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Need full IFRSs for investor protection – even for small listed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IASB Approach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360" y="914400"/>
            <a:ext cx="8997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630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cus on non-publicly accountable entities that publish general purpose financial statements for external users, including: 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598760" indent="-48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Non-manager owner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598760" indent="-48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isting and potential lenders and creditor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598760" indent="-48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redit rating agencie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914400" indent="-630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cus on typical SME with about 50 employees in deciding the content of the IFRS for SMEs.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IASB Approach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2560" y="1066320"/>
            <a:ext cx="8584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o quantified “size test”. Each jurisdiction should develop detailed guidelines on which entities are eligible to use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tand-alone document as much as possible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ramework concepts and pervasive principles added, to minimise need for fallback to full IFRSs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IASB Approach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837720"/>
            <a:ext cx="9163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4572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terial not relevant to typical SME omitted, with cross-references to IFRS if needed.  Examples: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249200" indent="-457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Hyperinflation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9200" indent="-457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quity-settled share-based payment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9200" indent="-457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griculture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9200" indent="-457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ractive industrie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9200" indent="-457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rim reporting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9200" indent="-457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essor finance lease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9200" indent="-457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Recoverable amount of goodwill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IASB Approach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2920" y="914400"/>
            <a:ext cx="9162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46160" indent="-609480">
              <a:spcBef>
                <a:spcPts val="901"/>
              </a:spcBef>
              <a:buClr>
                <a:srgbClr val="ffffff"/>
              </a:buClr>
              <a:buFont typeface="Verdana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Only simpler of options in full IFRS are included. Other(s) cross-referenced.  So, only: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2" marL="1601640" indent="-6094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st for investment property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601640" indent="-6094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st for PP&amp;E and intangibles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601640" indent="-6094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pense all borrowing cost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601640" indent="-6094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direct operating cash flows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601640" indent="-6094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One method for all grants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IASB Approach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7320" y="837720"/>
            <a:ext cx="9327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3920" indent="-5047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cognition and measurement simplifications, page 1 of 2: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08240" indent="-339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Financial instruments: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95588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 Unicode MS"/>
              </a:rPr>
              <a:t>Two classifications, not fo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95588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 Unicode MS"/>
              </a:rPr>
              <a:t>Drop “continuing involvement approach” for derecogn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95588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 Unicode MS"/>
              </a:rPr>
              <a:t>Much simplified hedge accoun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08240" indent="-339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Goodwill impairment – indicator approach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308240" indent="-339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Expense all R&amp;D 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308240" indent="-339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Cost method for associates and JV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308240" indent="-339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Income taxes – timing difference method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31T20:00:26Z</dcterms:created>
  <dc:creator>Hugh Harrison (Open)
</dc:creator>
  <dc:description/>
  <dc:language>en-US</dc:language>
  <cp:lastModifiedBy>cristina stacchini</cp:lastModifiedBy>
  <cp:lastPrinted>2001-02-21T16:18:07Z</cp:lastPrinted>
  <dcterms:modified xsi:type="dcterms:W3CDTF">2006-10-03T14:21:30Z</dcterms:modified>
  <cp:revision>482</cp:revision>
  <dc:subject/>
  <dc:title>No Slide Title</dc:title>
</cp:coreProperties>
</file>