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09E-4525-48BE-8CB1-F9DDA92E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7C4-9E85-4DEB-A2D1-96B1D2FB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1EE-0D6C-40E5-82BA-C4DFB898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56F-2814-482D-BFFD-9625BB86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D7A5-16D6-45F9-856F-F73A498E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A2C7-5333-42E2-97E6-10DC8196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16D9-BF86-4B7A-B13B-7C334E38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2E77-2393-4E31-85C0-990766A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7D4-AC0D-4B00-8FE3-BFD4BE62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556C-4AB6-4D4F-9E2D-4304934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7856-2E12-4A04-8572-EAE2AF5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4B6-0FA4-442A-B312-7F108DA9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5DF5-D3F6-4387-9709-A324EEEC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3CF3-1419-4C18-B2C5-3D0651D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880-BD4D-4A22-BE88-602035CD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27CE-A9A3-4C57-918E-3C135576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89A8-0B65-4AEF-9CFF-000321CE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F3E-0A4A-4B98-8507-16D04BD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7D6-7C9C-4176-A1D3-4BEB62C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DA9-574E-4A3D-B3E7-0124A998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8F4-8502-450F-9166-0398610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240-1E2B-46B6-8F31-89FBA4C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F3F-5696-4D68-ADDA-7746CB2A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AD4-C64F-4DFD-A30A-A276CDD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75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oma, 6 ottobr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FF0C-B6A7-4B08-9A13-C2AAFB99470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F8DB-BCB7-4785-A9E1-3741F11073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I progetti OIC e IASB</a:t>
            </a:r>
            <a:br>
              <a:rPr sz="3600"/>
            </a:b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per le SME</a:t>
            </a:r>
            <a:br>
              <a:rPr sz="3600"/>
            </a:b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Small and Medium Entities</a:t>
            </a: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Arial"/>
              </a:rPr>
              <a:t>ASSONANZE e DISSONA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15304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2360" y="5168880"/>
            <a:ext cx="54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f. Angelo Provas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idente del Comitato Esecutivo 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494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Partecipazion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controllo, joint ventures e di colleg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e l’alternativa tra il metodo del costo e quello del patrimonio n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minoranza (strumenti finanziar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e l’alternativa tra il metodo del costo e il fai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controllo (in non quota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nel bilancio separato il metodo del costo o il fai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oint ventures e partecipazioni di colleg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il metodo del costo, del patrimonio netto, o il fair valu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minoranza (strumenti finanziar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il fair value. Il costo è ammesso solo nel caso che il fair value risulti inattend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r le joint ventures è consentito anche il consolidamento propor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Imposte differi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de che si calcolino sulle differenze temporanee tra i valori civilistici e valori fiscali degli elementi dell’attivo e del pa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de il calcolo sulla base delle sole differenze tra il risultato d’esercizio e il reddito imponibile, senza riguardo alle differenze patrimon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n sintes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getto OIC, pur essendo abbastanza allineato alla proposta dello IASB, è in alcuni casi più flessibile per adattarsi alla realtà naz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getto OIC è, quindi, una tappa di avvicinamento verso l’applicazione generalizzata dei principi IASB per le S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chema dello Stato Patrimonial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ddivisione delle attività e passività tra correnti e non cor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ifiche consistenti alle classi di valori v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mplificazione dello schema (più sintetico dell’attuale, analisi e dettagli in Nota integr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iminazione di alcune voci attive (p. es. costi di impianto e ampliamento, ricerca, pubblicità) non più capitalizzabili salvo in certe condizioni i costi di svil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i d’ordine non presentati in calce allo schema ma in nota integ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consente schemi ancora più sintetici, ma la differenza è conten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I costi di sviluppo </a:t>
            </a:r>
            <a:r>
              <a:rPr b="0" i="1" lang="it-IT" sz="2000" spc="-1" strike="noStrike">
                <a:solidFill>
                  <a:srgbClr val="000080"/>
                </a:solidFill>
                <a:latin typeface="Arial"/>
              </a:rPr>
              <a:t>possono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 essere spes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chema del Conto Economic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troppo diverso da quello vig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posizione scal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lassificazione dei costi per n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duzione di alcuni dettagli, da esporre nella nota integ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Rispetto al progetto IASB, quello OIC è più articolato e puntuale, ma non se ne discosta significativamente nella logica di f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spetti aggiuntiv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ciplinati spefic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spetto delle variazioni delle voci di Patrimonio Ne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endiconto Finanzi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l progetto OIC è sostanzialmente allineato con il progetto IA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Fair valu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ozione del fair value: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obbligator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facoltati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posta di non renderla obbligatoria, ma di prevedere opzioni; tuttavia, adozione obbligatoria per rilevare i contratti deri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ciplina del fair value dettagliata per gli strumenti finanziari con imputazione della variazione a riserva o a conto economico a seconda de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Le opzioni per l’adozione del fair value nel progetto IASB si limitano a ridurre le categorie di tali strumenti da quattro a due, e la variazione del fair value sempre a conto economico. Non sono ammesse alternative sulle valu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Fair value per altre voc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ista facoltà di criteri di valutazione alternativi al costo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obilizzazioni materiali e immate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estimenti immobil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ività biologiche (opzione tra presumibile valore di realizzo e costo) e prodotti agr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l progetto OIC sostanzialmente coincide con quello IASB; tutt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vità biologiche: fair value obbligatorio, salvo casi di sua indispon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</a:t>
            </a:r>
            <a:br>
              <a:rPr sz="28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mmortamento dei beni materi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entrambi i progetti il valore da ammortizzare è la differenza tra costo d’acquisto (o fair value) e valore resid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 differenza del progetto OIC, lo IASB prescrive la rideterminazione del fair value del valore residuo alla fine di ogni periodo e quindi l’ammortamento del bene può risultare variabile di anno in an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</a:t>
            </a:r>
            <a:br>
              <a:rPr sz="28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mmortamento dei beni immateri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mortamento sistematico dei beni immateriali anche se a vita inde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dei beni immateriali a vita indefinita non deve essere ammortizzato, ma verificato almeno annualmente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mpairment te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TFR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tiene il criterio del Codice Civile  del debito matu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ede l’applicazione dei criteri di valutazione e di attualizzazione previsti dallo IAS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1:10:19Z</dcterms:created>
  <dc:creator>Franco Franchi</dc:creator>
  <dc:description/>
  <dc:language>en-US</dc:language>
  <cp:lastModifiedBy>claudia</cp:lastModifiedBy>
  <cp:lastPrinted>1904-01-01T00:00:00Z</cp:lastPrinted>
  <dcterms:modified xsi:type="dcterms:W3CDTF">2006-10-05T16:15:13Z</dcterms:modified>
  <cp:revision>12</cp:revision>
  <dc:subject/>
  <dc:title>I progetti OIC e IASB per le SME (Small and Medium Entities)</dc:title>
</cp:coreProperties>
</file>