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720263" cy="71961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EC9A-CD10-4307-8205-A6E3A8969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54D3-5123-4994-9DD2-1CDC74539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C9A6-6B89-4E6D-8E0A-9B7B1505B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8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828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8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7B87-D6A1-47FA-9D98-59E7259C4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6905-041A-42DB-AA6E-8AA697D19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E97F-63AE-44B9-A111-722850791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8978-0753-4D1C-990B-CEE3D161F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01BB-FF50-4899-A6C8-19AA3A5B6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30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A745-DBD7-45DC-9606-7F96BFC69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4A46-611D-4C9A-802F-ABD20CB83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7283-0304-48BB-A508-0BC14B32E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39B7-8DF7-4EB1-8573-7EA33CAFB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54240" indent="-35424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3680" indent="-23796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8160" indent="-23652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986200" y="6454800"/>
            <a:ext cx="2025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it-IT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7C3302-8D0C-440E-AF9E-1F4E5C5DA3FE}" type="slidenum">
              <a:rPr b="0" lang="it-IT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04920" y="6777000"/>
          <a:ext cx="152388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77000"/>
                    <a:ext cx="15238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905120" y="6781680"/>
            <a:ext cx="19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5 UBM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00" y="3205080"/>
            <a:ext cx="92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68800"/>
            <a:ext cx="4419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FRS for S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400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648320"/>
            <a:ext cx="42372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oberto Monac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14196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Il presente documento integra un’illustrazione orale degli argomenti in esso contenuti; non può essere pertanto considerato esaustivo senza le informazioni e i commenti che lo accompagna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1526-F7B0-40F9-9114-5DDC3D274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33920" y="1600200"/>
            <a:ext cx="243036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ore di carico del credito o del portafoglio di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600200"/>
            <a:ext cx="24289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00200"/>
            <a:ext cx="22687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dita durevole di va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1788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01788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 ammortizz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048120"/>
            <a:ext cx="320040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ore attuale dei futuri flussi di cassa al TIR orig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1240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00860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00860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038480"/>
            <a:ext cx="3200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glior stima del fair value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81480"/>
            <a:ext cx="906804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uccessivamente all’iscrizione di impairment è possibile rilevare riprese di valore qualora questa possa essere correlata ad eventi avvenuti successivamente la rilevazione della perdita durevole di valore (par. 12.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riprese di valore devono essere rilevate a conto economico anche quando relative a strumenti di equity oggetto di valutazione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Tale possibilità  è esclusa dall’attuale IAS 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3235-0CE0-4490-9F98-C7EBFE261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derecognition d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attività finanziari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è possibile qualora risultino soddisfatte le seguenti condizioni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diritti contrattuali a ricevere i cash flows dell’attività scadono oppure sono regol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557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trasferisce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3415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mantiene parte de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 ma cede il controllo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teso come possibilità di cedere l’attività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038480"/>
            <a:ext cx="899172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Qualora la cessione non presenti le caratteristiche per effettuare la derecognition è necessar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antenere l’attività ceduta nell’attivo di stato patrimon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rilevare una passività per l’importo ricev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638680"/>
            <a:ext cx="1447560" cy="6397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ività finanzi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 12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5638680"/>
            <a:ext cx="8043840" cy="639720"/>
          </a:xfrm>
          <a:custGeom>
            <a:avLst/>
            <a:gdLst>
              <a:gd name="textAreaLeft" fmla="*/ 0 w 8043840"/>
              <a:gd name="textAreaRight" fmla="*/ 8043840 w 80438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passività finanziarie devono essere cancellate dal bilancio all’esti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non prevede l’obbligo di derecogntion di passività in caso di loro riacqui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3240" y="228600"/>
            <a:ext cx="1622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E52-9779-4974-8A6B-170C8673BB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hedge accounting, consentito dalla sezione 12, rappresenta una versione più semplificata ma più “regolamentata” di quello previsto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080" y="261936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e variabile 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4276800"/>
            <a:ext cx="7391520" cy="3664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2080" y="344808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2080" y="5105520"/>
            <a:ext cx="7391520" cy="5126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2080" y="6081840"/>
            <a:ext cx="7391520" cy="31896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828800"/>
            <a:ext cx="8839080" cy="4572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zione 12 definisce nel dettaglio i rischi “copribili” e le tipologie di copertura ad essi applicabili (par. 12.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2046-950C-421D-9BF1-6CF9A222DA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applicazione dell’hedge accounting è subordinata alle seguenti condizioni (par.12.28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’impresa designa e documenta la relazione di copertura in modo che lo strumento coperto, il derivato di copertura e il rischio coperto siano ben identifi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843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rischio coperto è uno dei rischi citati nella slide pre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646440"/>
            <a:ext cx="8382240" cy="6969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e che le variazioni nel fair value o nei cash flows dello strumento coperto attribuibili al rischio coperto siano “almost fully offset” dalle variazioni nel fair value o nei cash flows del derivato di co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733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64832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er dimostrare il requisito di “almost fully offset” (efficacia) non ci si basa su test di efficacia ma sull’analisi delle caratteristiche dello strumento di copertur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aratteristiche dello strumento di copertura devono rispecchiare il più possibile quelle dello strumento coper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300640"/>
            <a:ext cx="76212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EC97-D9DF-490A-94CE-2D9D4ADBB9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371600"/>
            <a:ext cx="9219960" cy="6094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equisito di “almost fully offset” è rispettato se il derivato di copertura presenta le seguenti condizioni (par.12.3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0"/>
            <a:ext cx="845820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contratto è 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terest rate swa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eign currency swap/forward indicizzato alla medesima valuta di denominazione della posta coper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ward indicizzato a una commodity con le medesime caratteristiche della commodity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590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549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 nozionale del derivato di copertura è pari al valore nominale oggetto di copertura della posta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05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159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Ha una scadenza non superiore a quella dello strumento coperto e non prevede clausole di prepayment, estinzione anticipata o di estensione della du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 un fair value pari a zero all’iscrizion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 prevede clausole di regolamento dipendente da eventi futuri non associati al rischi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0642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n presenta particolari condizioni che possono invalidare l’aspettativa di “Almost Fully Offs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019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1741-A101-42B9-8D9F-20919A0D41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371600"/>
            <a:ext cx="9219960" cy="3808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lo strumento di copertura è un IRS sono inoltre necessarie le seguenti condizioni (par. 12.31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406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un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tasso fis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stante lungo l’intera vita dell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362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302080"/>
            <a:ext cx="8458200" cy="641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repricing dates che corrispondono al </a:t>
            </a: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timing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gli interessi e delle repricing date dello strument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257800"/>
            <a:ext cx="457200" cy="77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1240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variabil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il medesimo tasso variabile dell’attività/passività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fiss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un tasso variabile quotato sul mercato e basato sul medesimo indice lungo la sua intera v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8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C308-3963-40F5-B033-0B848D507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22096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9" y="0"/>
                </a:lnTo>
                <a:lnTo>
                  <a:pt x="21600" y="10800"/>
                </a:lnTo>
                <a:lnTo>
                  <a:pt x="20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1" y="0"/>
                </a:lnTo>
                <a:lnTo>
                  <a:pt x="21600" y="10800"/>
                </a:lnTo>
                <a:lnTo>
                  <a:pt x="20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336840"/>
            <a:ext cx="4038840" cy="4874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variabile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7242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0" y="0"/>
                </a:lnTo>
                <a:lnTo>
                  <a:pt x="21600" y="10800"/>
                </a:lnTo>
                <a:lnTo>
                  <a:pt x="206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438880"/>
            <a:ext cx="4038840" cy="5126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57800"/>
            <a:ext cx="4038840" cy="31932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9" y="0"/>
                </a:lnTo>
                <a:lnTo>
                  <a:pt x="21600" y="10800"/>
                </a:lnTo>
                <a:lnTo>
                  <a:pt x="20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523880"/>
            <a:ext cx="5029200" cy="10670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 strumento di copertura è valutato al fair value con iscrizione delle differenze a conto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valore dello strumento coperto è adeguato delle variazioni di fair value dello strumento di  copertura (par. 12.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048120"/>
            <a:ext cx="5029200" cy="106668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differenziale maturato sullo strumento di copertura è rilevato a conto economico (par. 12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724280"/>
            <a:ext cx="5029200" cy="17528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erva di PN è riclassificata a conto economico nel momento in cui questo è influenzato dalla posta cop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par. 12.3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65E0-AB5F-4D96-A0E2-36CB0C4863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37160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ulta necessario indicare i criteri valutativi e le politiche contabili utilizzati per gli strumenti finanziari (Par. 12.3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0968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tato patrimoniale o in nota integrativa occorre indicare il valore delle seguenti categorie di strumenti finanziari (indicandone altresì la composizione se rilevante) (Par. 12.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16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6259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81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2354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trumenti di equity valutati al cos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mpegni forward e opzioni valutati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987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943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8C03-0590-4935-BD69-342CB6AF56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4479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 gli strumenti oggetto di valutazione al fair value occorre indicare i criteri utilizzati per la determinazione di tale valore (Par. 12.4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209680"/>
            <a:ext cx="8458200" cy="533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l caso di strumenti valutati al costo ammortizzato non è necessario indicare il fair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ccorre, tuttavia, indicare le caratteristiche (tasso di interesse, rischio cambio e rischio credito) che possono influenzare i futuri flussi di cassa (par. 12.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165400"/>
            <a:ext cx="457200" cy="639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200400"/>
            <a:ext cx="739152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caso di cessioni che non soddisfano i requisiti per la derecognition occorre indic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ll’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i risk and re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mmontare dell’attività e dell’associata pass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200400"/>
            <a:ext cx="1676520" cy="9907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572000"/>
            <a:ext cx="7391520" cy="7621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i crediti passivi occorre indicare i dettagli di eventuali default avvenuti nell’esercizio, il relativo valore contabile e se tale default è stato rimediato (anche attraverso la rinegoziazione delle condizioni contra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57200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i pass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ar. 12.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5562720"/>
            <a:ext cx="7391520" cy="761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 l’impresa ha prestato  attività come collateral deve indicarne il valore contabile e le condizioni relativamente alle quali la garanzia è stata prest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562720"/>
            <a:ext cx="1676520" cy="7617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lla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9294-023B-48F9-B9AD-C6D39164AF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371600"/>
            <a:ext cx="86108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ccorre indicare separatamente per le diverse tipologie di copertura posta in essere (par. 12.49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5800680" cy="3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lla coper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971800"/>
            <a:ext cx="5800680" cy="428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gli strumenti finanziari di copertura e il relativo fair value alla data di bilan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038480"/>
            <a:ext cx="5800680" cy="268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 natura dei rischi coper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2057400"/>
            <a:ext cx="2293920" cy="304920"/>
          </a:xfrm>
          <a:prstGeom prst="rightArrow">
            <a:avLst>
              <a:gd name="adj1" fmla="val 50000"/>
              <a:gd name="adj2" fmla="val 18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560" y="39625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6483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le coperture di fair value di strumenti a tasso fisso o di commodity occorre indicare la variazione di fair value dello strumento di copertura (coperto) iscritta a conto economico (par. 12.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5AE4-2378-4989-B130-D04E03130D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440" y="6156360"/>
            <a:ext cx="8915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90080"/>
            <a:ext cx="82346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380880" indent="-38088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55520"/>
            <a:ext cx="9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29066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52280"/>
            <a:ext cx="960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ffffff"/>
                </a:solidFill>
                <a:latin typeface="Arial"/>
              </a:rPr>
              <a:t>Le informazioni contenute nel documento sono altamente riservate e strettamente confidenziali, il documento non può in nessun caso essere consegnato a terze parti ed è indirizzato e rivolto esclusivamente ai destinatari diretti del materiale. E’ pertanto vietata qualsiasi tipo e forma di riproduzione e divulgazione a soggetti diversi dai destinatari. Esso non costituisce in alcun modo offerta o sollecitazione ad effettuare operazioni in strumenti finanziari. Le informazioni contenute nei documenti servono solo per l’approfondimento di tematiche specifiche e non possono essere utilizzate per la valutazione delle posizioni in essere ovvero per la certificazione di operazioni o di evidenze contabili. Inoltre, pur essendo le informazioni, le opinioni, le valutazioni, le stime o le previsioni contenute nei documenti basate su fonti ritenute affidabili, la Banca non esprime in alcun modo un giudizio, diretto o indiretto, sulle stes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44520" y="33526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7480" y="375300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9200" y="41911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9200" y="243828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514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nalogie e differenze con 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440" y="462132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B43C-E197-46E9-A07C-EFC151C7B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99172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el caso di coperture di strumenti a tasso variabile,  di  transazioni future o di investimenti in gestione estere occorre, inoltre, indicare (par. 12.5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170080"/>
            <a:ext cx="6553080" cy="3049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periodo in cui si suppone che si verificheranno i cash f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33840"/>
            <a:ext cx="6553080" cy="304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ando tali cash flow incideranno su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29724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descrizione delle transazioni previste coperte ma che si presume non si verificheranno in fut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93696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iscritto a patrimonio netto nel corso dell’eserc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576680"/>
            <a:ext cx="655308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218200"/>
            <a:ext cx="6553080" cy="5331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valore di carico dell’attività/passività non finanziaria coperta nell’ambito della copertura di una transazione p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170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7036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313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96072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0836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30712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82CC-9F18-48AB-A7E9-C8099E579D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ono due sole categorie di attività finanziarie (Costo e Fair value). Non si prevede alcuna categoria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“Available for sale” alike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’ consentita l’applicazione della fair value option non subordinata al rispetto delle condizioni attualmente previste da IAS 39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scorporare gl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mbedded derivatives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strutturati devono essere obbligatoriament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Le caratteristiche degli strumenti da valutare al costo ammortizzato sono chiaramente definit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181480"/>
            <a:ext cx="16765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746784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consentite due metodologie di valutazione: Costo/costo ammortizzato e Fair value (par. 12.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guidance fornita per la determinazione del fair value è del tutto analoga a quella prevista da IAS 39 (Appendix to section 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condo le definizioni riportate il costo ammortizzato è calcolato sulla base dei flussi di cassa attesi (come in IAS 39) (Gloss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42CA-86BD-4493-807E-708E38356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oncetti di incurred losses e di valutazione collettiva, pur non indicati, sono richiamati dalla lettura della norma (par.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metodo per il calcolo dell’impairment degli strumenti al costo ammortizzato è il medesimo previsto da IAS 39 mentre il metodo per quelli al costo è, nella lettera, diverso da quello previsto da IAS 39. Tuttavia i due metodi sembrano voler pervenire a risultati analoghi 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possibili riprese di valore a C/e su strumenti di equity valutati al costo (par. 12.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4956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me in IAS 39 la derecognition si basa sulla cessione di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significant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nessi all’attività ceduta e, in subordine, sulla cessione del controllo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rilevare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 continuing invol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iacquisto di passività emesse non è causa di derecogntion di proprie passività (par. 12.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2745-DB92-45DE-B627-8D8F0BCFE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9051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7467840" cy="2819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regole per l’applicazione dell’hedge accounting sono semplificate ma sono soggette a condizioni più stringenti rispetto a quelle previste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defin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nel dettagli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trumenti di copertura e loro caratteri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ipologie di rischi copribili e contabilità ad essi applic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verifica dell’efficacia si basa sull’analisi delle caratteristiche dello strumento di copertura rispetto alla posta coperta (parr. 12.30, 12.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641E-D718-4F30-8CD9-D2A3A7647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70080"/>
            <a:ext cx="929628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sezione 12 prevede solamente due categorie di classificazione sia per le attività sia per le passività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133720"/>
            <a:ext cx="2057400" cy="217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057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ir value con iscrizione delle differenze a conto econom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133720"/>
            <a:ext cx="6934320" cy="21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zioni (e opzioni ad esse collegate) non quotate pubblicamente e il cui fair value non può essere determinato in modo affid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egni ad erogare/ricevere finanziamenti che l’impresa decide di valutar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menti di debito che prevedono caratteristiche determinate dal principio e che l’impresa decide di valutare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572000"/>
            <a:ext cx="6934320" cy="11430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alunque strumento non valutato al costo/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760" y="5918040"/>
            <a:ext cx="94917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sono ammesse riclassificazioni di strumenti finanziari da una classe all’altra (par. 12.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F86C-7518-4C80-978C-B3831017C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 poter essere valutati al costo ammortizzato gli strumenti di debito devono presentare una serie di caratteristich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deve presentare una scadenza oppure deve essere pagabile a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732040"/>
            <a:ext cx="838224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ichiede il rimborso di tutto l’ammontare ricevuto oppure ero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9416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ende un ammontare fisso, un tasso fisso, oppure un tasso di interesse variabile che è quotato od osserv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2559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non prevede clausole contrattuali in base alle quali il detentore possa non recuperare il nozionale e gli interessi per ragioni diverse da perdite su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417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usole contrattuali di rimborso anticipato non possono essere dipendenti da eventi fut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941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255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9416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698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930132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 base a tali regole sembrano essere valutabili al costo ammortizzato solamente i crediti/tito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lain vanilla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rediti/titoli convertibili o in altro modo strutturati devono esser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10E9-2955-4FC3-892C-3E2739000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3920" y="1143000"/>
            <a:ext cx="93009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l termine di ogni esercizio gli strumenti valutati al costo/costo ammortizzato devono valutati al fine di individuare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videnze oggettive di impairment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18,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7960" y="1863720"/>
            <a:ext cx="6330960" cy="320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tive difficoltà finanziarie de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7960" y="234468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zione degli accordi contrattuali quali l’inadempienza oppure il mancato pagamento del capitale o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7960" y="298440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estensione dal creditore al debitore di concessioni motivate dalle difficoltà finanziarie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62412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a probabilità di fallimento o di altra riorganizzazione finanziaria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4264200"/>
            <a:ext cx="6330960" cy="47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mparsa dell’attività finanziaria da un mercato attivo a seguito delle difficoltà finanziarie sperimentate da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4863960"/>
            <a:ext cx="6330960" cy="1155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nza di dati osservabili indicativi di un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nei futuri cash flow stimati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uppo di attività finanziarie sebbene tale decremento non possa essere ancora attribuito a specifiche attiv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empi sono dati da condizioni geografiche o settoriali av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265560"/>
            <a:ext cx="1863720" cy="1360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6b88a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idenze oggettive di 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9560" y="1863720"/>
            <a:ext cx="323640" cy="4156200"/>
          </a:xfrm>
          <a:custGeom>
            <a:avLst/>
            <a:gdLst>
              <a:gd name="textAreaLeft" fmla="*/ 207000 w 323640"/>
              <a:gd name="textAreaRight" fmla="*/ 324000 w 323640"/>
              <a:gd name="textAreaTop" fmla="*/ 108360 h 4156200"/>
              <a:gd name="textAreaBottom" fmla="*/ 4047840 h 415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86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42244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03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65760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32756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87692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E8CA-DB29-46B7-BC16-EBCD1A0A08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546200"/>
            <a:ext cx="30481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individualmente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60020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90920"/>
            <a:ext cx="30481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non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590920"/>
            <a:ext cx="2667240" cy="53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666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30481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zioni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58128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572000"/>
            <a:ext cx="8921880" cy="1600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zione 12 non fa riferimenti espliciti a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é prevede la necessità di valutare collettivamente le attività per le quali la valutazione analitica non restituisce evidenze oggettive di impair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uttav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necessità di valutazione analitica è richiamata dalla condizione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la lettera della condizione f) (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) richiama i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C4D5-B38C-4655-90EA-D4C317A64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Administrator</dc:creator>
  <dc:description/>
  <cp:keywords/>
  <dc:language>en-US</dc:language>
  <cp:lastModifiedBy>claudia</cp:lastModifiedBy>
  <cp:lastPrinted>2003-11-20T09:44:48Z</cp:lastPrinted>
  <dcterms:modified xsi:type="dcterms:W3CDTF">2006-10-05T16:14:55Z</dcterms:modified>
  <cp:revision>629</cp:revision>
  <dc:subject/>
  <dc:title>PowerPoint Presentation</dc:title>
</cp:coreProperties>
</file>