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94B6-9F09-417E-A295-31E23070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FB06-B8AC-4D70-85BC-A09574BD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3BF7-9F37-41C0-A3AD-BACD9CA9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CFFD-D81A-49A7-A190-3E5E5970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FCD7-7E19-4F7E-A174-4CD7FFE7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165B-9544-4645-A1F4-72E33FD7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686B-A6B5-4ECE-9A46-6394090F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117A-15B7-418E-A3A5-66A64C02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93AE-371A-4A6B-8929-6DE5B80F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D599-88CB-40CF-B5EF-A3D58F79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D683-93FA-41FA-B440-AE7F0335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29E2-D931-4E16-8375-CFFB4C1F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C8DC-BD11-49F2-ABD3-4E4F354D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B98E-B204-458F-9FC3-40FEA935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8FB2-98B4-4CCB-9577-73B2EDD4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A6B4-B3B8-40FA-8EE2-413C208B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2386-ABDE-4E7E-BFC2-6D8B9B4B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12E0-C15A-495C-9ADA-AB277BBC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9CDA-8777-4347-AF34-E9B23084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2E28-C4BE-45CB-8E2C-AEDD8BC9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B1F7-51BC-41C9-8A52-5CB20249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E651-DED6-4D6C-8870-051B9A9F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3C27-7669-476F-8EFE-49E6AE1C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CC71-756A-4170-B6B3-6BB2B931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E0A7-EB44-4D33-8910-6ACCA54F3118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0B7A-F055-40B9-A4BF-D443F8395B15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</a:t>
            </a:r>
            <a:fld id="{91394FE3-9FCA-4494-BEDC-A72AC3478447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</a:rPr>
              <a:t>Ind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Origini del progetto IASB/S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-609480">
              <a:lnSpc>
                <a:spcPct val="25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 principali problemi e le prime decisio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-609480">
              <a:lnSpc>
                <a:spcPct val="25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L’armonizzazione contabile e il progetto IASB/S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-609480">
              <a:lnSpc>
                <a:spcPct val="25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Tempistic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    </a:t>
            </a:r>
            <a:fld id="{B71CC5C2-D4A3-4049-8146-5CA505E4F278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1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610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1.  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Origini del progetto IASB/S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)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it-IT" sz="20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FAC – Nel 2000: difficoltà estensione IAS fuor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</a:t>
            </a:r>
            <a:r>
              <a:rPr b="0" lang="it-IT" sz="20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del circuito Società quot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2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onvergenza di tutte le professioni contabi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aesi sviluppati ed in via di svilupp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ondo anglo-sassone ed europ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    </a:t>
            </a:r>
            <a:fld id="{3B811F59-9707-41EF-9F0F-EB94AE3BF36B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51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476280">
              <a:lnSpc>
                <a:spcPct val="25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Origini del progetto IASB/S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2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b)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en-GB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nput da IFAC a IAS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2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FAC: SMP Committee (200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2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   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</a:t>
            </a:r>
            <a:r>
              <a:rPr b="0" lang="en-GB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ASB: working group-(200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2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    </a:t>
            </a:r>
            <a:fld id="{446C7A9D-9CA9-45AF-8412-F89E8EF317B9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.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 principali problemi e le prime decisio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)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La base della scelt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</a:t>
            </a:r>
            <a:r>
              <a:rPr b="0" lang="en-GB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GB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ost/benef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</a:t>
            </a:r>
            <a:r>
              <a:rPr b="0" lang="en-GB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GB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users nee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2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 </a:t>
            </a:r>
            <a:fld id="{972DD95E-AB43-4798-9310-01E88E630A7D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.  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 principali problemi e le prime decisio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b)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istema contabile derivato o autono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Framework – Pervasive princi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   </a:t>
            </a:r>
            <a:fld id="{1C2A2170-5AC6-4836-854B-E372EFF158E6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228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.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 principali problemi e le prime decisio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)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efinizione di S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imensione – Qualit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IE- NPA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essuna defini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   </a:t>
            </a:r>
            <a:fld id="{CA8746F4-99D1-4091-B25D-170FD0D2F688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228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.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 principali problemi e le prime decisio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)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Le attuali linee guid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edie Imprese o Micro-ent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</a:t>
            </a:r>
            <a:fld id="{F19D0BAE-3143-44E7-BAFF-0691EF7CBC70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3.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L’armonizzazione contabile e il progetto IASB/SM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Unione Europ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USA e Can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</a:t>
            </a:r>
            <a:fld id="{FE1273E6-C310-4400-9EC1-23FCD1B41455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914040"/>
            <a:ext cx="7239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4.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Tempis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efinitivo: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Utilizzo: 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ggiornamen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8:14:14Z</dcterms:created>
  <dc:creator>ERSE</dc:creator>
  <dc:description/>
  <dc:language>en-US</dc:language>
  <cp:lastModifiedBy>claudia</cp:lastModifiedBy>
  <dcterms:modified xsi:type="dcterms:W3CDTF">2006-10-05T16:14:03Z</dcterms:modified>
  <cp:revision>14</cp:revision>
  <dc:subject/>
  <dc:title>Presentazione di PowerPoint</dc:title>
</cp:coreProperties>
</file>