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2DF-3931-4264-B3B5-D3876A2E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9A5-D280-4484-B30C-56A29ACD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3E57-316A-4BFF-9E4F-CFD6EAD5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5A5C-0372-4802-BB0C-40A067FC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AA36-1417-4199-BA88-7CE0D915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BCFD-5DED-40F6-BA2D-2C487A36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7309-5E8F-45EA-9527-D25C3743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AEAF-3A67-4B31-9994-2E627825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C648-8AEF-4E6E-ABCD-E7E267E4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8AD1-F011-40B2-8A7E-40B58EA5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2AE4-99E3-483F-A822-B8C07853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5CB-7A34-4781-9A53-794457E6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A179-9EFB-4200-A208-50BAFDF5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B0B2-6BDD-40C4-A03C-13EE7D7D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C4A1-E108-44C6-8950-AB4E1A95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9AE4-171F-4444-92FC-A498DA19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4D71-DBC2-4789-8098-0C3FFA13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E65-713A-4C04-A163-E0F02055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E724-C415-4195-9528-651FE7E2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33D-ED8E-4F68-99F4-175ADFA3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FCCA-8E06-4EFA-93CD-D19787CA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C1B-CCF5-4494-BCBF-A875A406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F05C-4698-4985-83CA-52827659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AED-D59C-49D3-A39E-73074E46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7520" cy="130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oma, 6 ottobr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EAF6-CC55-4DA7-917B-255E0C1D7A2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FF27-0114-4C09-A042-9C914646653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80"/>
                </a:solidFill>
                <a:latin typeface="Arial"/>
              </a:rPr>
              <a:t>I progetti OIC e IASB</a:t>
            </a:r>
            <a:br>
              <a:rPr sz="3600"/>
            </a:br>
            <a:r>
              <a:rPr b="1" lang="it-IT" sz="3600" spc="-1" strike="noStrike">
                <a:solidFill>
                  <a:srgbClr val="000080"/>
                </a:solidFill>
                <a:latin typeface="Arial"/>
              </a:rPr>
              <a:t>per le SME</a:t>
            </a:r>
            <a:br>
              <a:rPr sz="3600"/>
            </a:b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Small and Medium Entities</a:t>
            </a: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Arial"/>
              </a:rPr>
              <a:t>ASSONANZE e DISSONAN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15304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2360" y="5168880"/>
            <a:ext cx="54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f. Angelo Provas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sidente del Comitato Esecutivo O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24940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 - Partecipazion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rtecipazioni di controllo, joint ventures e di collegam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ente l’alternativa tra il metodo del costo e quello del patrimonio n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rtecipazioni di minoranza (strumenti finanziari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ente l’alternativa tra il metodo del costo e il fai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IAS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rtecipazioni di controllo (in non quotat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ede nel bilancio separato il metodo del costo o il fai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oint ventures e partecipazioni di collegam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ede il metodo del costo, del patrimonio netto, o il fair valu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rtecipazioni di minoranza (strumenti finanziari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ede il fair value. Il costo è ammesso solo nel caso che il fair value risulti inattendi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r le joint ventures è consentito anche il consolidamento proporz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 - Imposte differit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vede che si calcolino sulle differenze temporanee tra i valori civilistici e valori fiscali degli elementi dell’attivo e del pas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IAS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vede il calcolo sulla base delle sole differenze tra il risultato d’esercizio e il reddito imponibile, senza riguardo alle differenze patrimon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In sintes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rogetto OIC, pur essendo abbastanza allineato alla proposta dello IASB, è in alcuni casi più flessibile per adattarsi alla realtà nazion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rogetto OIC è, quindi, una tappa di avvicinamento verso l’applicazione generalizzata dei principi IASB per le S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Schema dello Stato Patrimonial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OIC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ddivisione delle attività e passività tra correnti e non corr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difiche consistenti alle classi di valori vig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mplificazione dello schema (più sintetico dell’attuale, analisi e dettagli in Nota integra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iminazione di alcune voci attive (p. es. costi di impianto e ampliamento, ricerca, pubblicità) non più capitalizzabili salvo in certe condizioni i costi di svil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ti d’ordine non presentati in calce allo schema ma in nota integ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IAS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consente schemi ancora più sintetici, ma la differenza è conten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I costi di sviluppo </a:t>
            </a:r>
            <a:r>
              <a:rPr b="0" i="1" lang="it-IT" sz="2000" spc="-1" strike="noStrike">
                <a:solidFill>
                  <a:srgbClr val="000080"/>
                </a:solidFill>
                <a:latin typeface="Arial"/>
              </a:rPr>
              <a:t>possono</a:t>
            </a: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 essere spes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Schema del Conto Economico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troppo diverso da quello vig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sposizione scal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lassificazione dei costi per n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Riduzione di alcuni dettagli, da esporre nella nota integ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Rispetto al progetto IASB, quello OIC è più articolato e puntuale, ma non se ne discosta significativamente nella logica di fo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spetti aggiuntiv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sciplinati spefica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ospetto delle variazioni delle voci di Patrimonio Net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Rendiconto Finanzi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Il progetto OIC è sostanzialmente allineato con il progetto IA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 - Fair valu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dozione del fair value: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obbligatori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facoltativ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posta di non renderla obbligatoria, ma di prevedere opzioni; tuttavia, adozione obbligatoria per rilevare i contratti deri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sciplina del fair value dettagliata per gli strumenti finanziari con imputazione della variazione a riserva o a conto economico a seconda dei c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Le opzioni per l’adozione del fair value nel progetto IASB si limitano a ridurre le categorie di tali strumenti da quattro a due, e la variazione del fair value sempre a conto economico. Non sono ammesse alternative sulle valu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 - Fair value per altre voc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vista facoltà di criteri di valutazione alternativi al costo p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mobilizzazioni materiali e immater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estimenti immobili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ività biologiche (opzione tra presumibile valore di realizzo e costo) e prodotti agric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Il progetto OIC sostanzialmente coincide con quello IASB; tutt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ività biologiche: fair value obbligatorio, salvo casi di sua indisponi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</a:t>
            </a:r>
            <a:br>
              <a:rPr sz="28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Ammortamento dei beni material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 entrambi i progetti il valore da ammortizzare è la differenza tra costo d’acquisto (o fair value) e valore residu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A differenza del progetto OIC, lo IASB prescrive la rideterminazione del fair value del valore residuo alla fine di ogni periodo e quindi l’ammortamento del bene può risultare variabile di anno in an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</a:t>
            </a:r>
            <a:br>
              <a:rPr sz="28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Ammortamento dei beni immaterial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mmortamento sistematico dei beni immateriali anche se a vita inde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IAS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valore dei beni immateriali a vita indefinita non deve essere ammortizzato, ma verificato almeno annualmente 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mpairment tes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 - TFR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tiene il criterio del Codice Civile  del debito matu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IAS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vede l’applicazione dei criteri di valutazione e di attualizzazione previsti dallo IAS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1:10:19Z</dcterms:created>
  <dc:creator>Franco Franchi</dc:creator>
  <dc:description/>
  <dc:language>en-US</dc:language>
  <cp:lastModifiedBy>claudia</cp:lastModifiedBy>
  <cp:lastPrinted>1904-01-01T00:00:00Z</cp:lastPrinted>
  <dcterms:modified xsi:type="dcterms:W3CDTF">2006-10-05T16:15:13Z</dcterms:modified>
  <cp:revision>12</cp:revision>
  <dc:subject/>
  <dc:title>I progetti OIC e IASB per le SME (Small and Medium Entities)</dc:title>
</cp:coreProperties>
</file>