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F20F-B69A-4EC8-8D0E-F64C181D2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ED47-FF81-44D5-BBE4-C4AF96261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906A-C813-4555-AB18-66FA07662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E56F-AFC9-44BF-B99E-722AD3641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9433-C809-447A-AFE1-A61436EBC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F4DD-312B-40C0-B88F-20788CCC3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2B75-550F-4F71-8359-302E0C81A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EF59-F5C1-4C11-8482-DD8298444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1F33-B9F5-4B27-A638-9AF31E0C1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606C-8EFD-40C1-9F1F-5BC0D6711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1872-72E7-43A7-9912-D28543009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32CA-BFDE-4E90-9D13-1AFC00D25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1560" y="790560"/>
            <a:ext cx="8493120" cy="0"/>
          </a:xfrm>
          <a:prstGeom prst="line">
            <a:avLst/>
          </a:prstGeom>
          <a:ln w="25560">
            <a:solidFill>
              <a:srgbClr val="e86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381720"/>
            <a:ext cx="8770680" cy="19080"/>
          </a:xfrm>
          <a:prstGeom prst="line">
            <a:avLst/>
          </a:prstGeom>
          <a:ln w="19080">
            <a:solidFill>
              <a:srgbClr val="e86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24D0-2E6B-4FF9-B3AD-CD2A6FA8D6A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066680"/>
            <a:ext cx="8136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CONVEGNO OIC</a:t>
            </a:r>
            <a:br>
              <a:rPr sz="3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LE MODIFICHE DELLA DISCIPLINA CODICISTICA DEL BILANCIO DI ESERCIZIO: IL PROGETTO OIC DI ATTUAZIONE DELLE DIRETTIVE NN. 51/2003 E 65/2001 </a:t>
            </a:r>
            <a:br>
              <a:rPr sz="2000"/>
            </a:br>
            <a:br>
              <a:rPr sz="20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******</a:t>
            </a:r>
            <a:br>
              <a:rPr sz="3200"/>
            </a:b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I principali interventi sugli schemi di bilancio: stato patrimoniale, conto economico, rendiconto finanziario e prospetto di variazione del patrimonio netto</a:t>
            </a:r>
            <a:br>
              <a:rPr sz="2000"/>
            </a:br>
            <a:br>
              <a:rPr sz="20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******</a:t>
            </a:r>
            <a:br>
              <a:rPr sz="1500"/>
            </a:br>
            <a:br>
              <a:rPr sz="1500"/>
            </a:b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Fabrizio Dabbene</a:t>
            </a:r>
            <a:br>
              <a:rPr sz="1800"/>
            </a:b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Roma, 21 giugno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17F3-6ED6-48C0-B336-5EA59102FC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4588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lo stato patrimonial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" y="787320"/>
            <a:ext cx="79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Lo stato patrimoniale deve essere redatto in conformità al seguente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992160"/>
            <a:ext cx="8665920" cy="537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F582-9FAE-4256-A91F-4FF7503845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60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lo stato patrimoniale - Segu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7520" y="896760"/>
            <a:ext cx="843732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a un’articolazione su quattro livelli ad un’articolazione su due liv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divisione tra poste non correnti e poste corr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* *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mmobilizzazioni immaterial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tenuto più circoscri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mmobilizzazioni material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divisione tra immobili strumentali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nvestimenti immobil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Beni utilizzati in locazione finanziaria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scrizione dei beni acquisiti in le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finanz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artecipazion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nclusi solo investimenti in controlla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llegate, controllate congiunt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ttività e passività finanziarie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istinzione per natura e non in base 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estinazione fun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ttività possedute per la vendita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uova vo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assività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quasi invariate le voci; solo una min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rtic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on ci sono più le azioni proprie all’attivo ed i ratei attivi e pass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1360" y="191448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1360" y="231444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81360" y="301932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81360" y="36957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81360" y="43815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81360" y="50673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81360" y="550548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F344-5919-41D4-A2E9-F618777425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4588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conto economic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4320" y="787320"/>
            <a:ext cx="77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Il conto econom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deve essere redatto in conformità al seguente sch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001880"/>
            <a:ext cx="6446880" cy="53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7424-39D6-45D9-9D16-06BBE00CF7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9120" y="260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conto economico - Segu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120" y="1130400"/>
            <a:ext cx="862812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essuna rivoluzione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antenimento della forma scal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antenimento della suddivisione dei costi per n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inore artic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Un solo margine intermedio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sultat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mponenti finanziarie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divisione tra componenti realizzate e compon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val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roventi ed oneri straordinar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tenuto limitato a proventi ed oneri estra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ll’attività dell’impresa, rilevanti,casuali ed infrequ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on includono più effetti derivanti da cambiamenti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rincipi contabili o da correzione di err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2200" y="116208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2200" y="146700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2200" y="176220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2200" y="236232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2200" y="27813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62200" y="348624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417204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5AF1-1588-48DF-A7E4-55A3E77668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1960" y="1411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prospetto delle variazioni delle voci di patrimonio nett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9880" y="797040"/>
            <a:ext cx="8844120" cy="63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l nuovo art. 2425-ter disciplina il contenuto del prosp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l patrimonio netto si movimenta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operazioni sul capit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estinazione utile e distribuzione/util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mponenti economiche dirett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mputate a patrimonio 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mponenti economiche (da espo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l netto dell’effetto fiscale)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variazioni di fair value di immobilizz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ateriali e immateriali, strumenti finanz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isponibili per la vendita, contratti derivati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pertura del rischio di variazione di flu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finanz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variazioni di valore di partecipazioni valu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 il metodo del patrimonio 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effetti pregressi derivanti da cambiamenti di 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rincipi contabili ed effetti derivanti 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rrezioni di err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Le azioni proprie costituiscono una componente negativa di patrimonio 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fronto con esercizio preced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38640" y="12002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38640" y="153360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20858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297180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38640" y="425772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38640" y="48290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1240" y="2076480"/>
            <a:ext cx="3581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3430-E923-49EF-8F4B-B80F0246BB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6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rendiconto finanziari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4800" y="1054080"/>
            <a:ext cx="84060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Il nuovo art. 2425-quater fornisce indicazioni generali sul contenuto del rendiconto finanzia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disponibilità liquide ad inizio e fine eserciz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flussi finanziari derivanti da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attività opera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attività di investi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attività di finanzi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operazioni con i soc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Rinvio ai principi contabili ed alla dottr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Possibilità di scelta tra: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metodo diretto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dettaglio incassi e pagamenti derivan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da attività opera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metodo indiretto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utile/perdita rettificati dagli effetti 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natura non monetar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Confronto con esercizio preced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0667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3907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27147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30099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2195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8290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31BB-C0A6-402E-BB40-34D220CFDC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2600" y="236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3399"/>
                </a:solidFill>
                <a:latin typeface="Arial"/>
              </a:rPr>
              <a:t>I prospetti contabili nei bilanci 2006 (società non finanziarie MIB 30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6440" y="996840"/>
            <a:ext cx="8277120" cy="53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B3BD-1D03-48D1-A046-E816F03BC51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4:14:15Z</dcterms:created>
  <dc:creator>Monica Mollica</dc:creator>
  <dc:description/>
  <dc:language>en-US</dc:language>
  <cp:lastModifiedBy>claudia</cp:lastModifiedBy>
  <cp:lastPrinted>2003-02-13T11:50:58Z</cp:lastPrinted>
  <dcterms:modified xsi:type="dcterms:W3CDTF">2007-06-19T14:31:40Z</dcterms:modified>
  <cp:revision>3716</cp:revision>
  <dc:subject/>
  <dc:title>Diapositiva 0</dc:title>
</cp:coreProperties>
</file>