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D8A-9A55-42C4-8BBB-D3A7270E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3B3-2E64-489D-910F-253C6CDE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57B-9450-4768-BF44-AB17ABCB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309-9426-4D88-9854-7943ACA2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737-558A-4A84-88A9-5605A533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3CD-BBA0-4688-BBE2-2770EC3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C20C-BB1B-416E-AD82-2EA2697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0F5-B9DA-45DC-99D3-CF973AC1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BCA-DBB9-47B7-8728-CE3DCDA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552-5711-4142-8C7F-031571FA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5B6-C585-44C8-9487-6A9A982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62D-8BDF-4DB8-98E2-5A9467E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9400-86B1-4F48-97C9-76B55A0A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75C-9E05-46D2-9760-1EECAAA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706-ABDD-4E91-9A27-47F6DF0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4B6-EED0-47F6-8110-368D591C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63CB-2157-4B66-8AD2-8FD0613D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38A-F626-4F4F-8C41-A80D61C9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1DE-8E3B-4615-A2C2-159B6694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DFB-20AF-4250-83FC-FB414DD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482-43C4-4722-A561-3733C477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E21-4C01-46A5-AB9F-874BE66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15C-0385-44C5-89AF-9A99C48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BAA-B299-482F-899D-4D3F8E6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B7E-7CB4-4421-814C-5E161960DAD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CD45-3D38-48CA-8A6E-20B87606CA7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</a:t>
            </a:r>
            <a:fld id="{B5DE3FB5-9916-4D60-9676-705301462036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1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CONVEGNO O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21 GIUGNO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“</a:t>
            </a: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modifiche della disciplina codicistica del bilancio di esercizio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OIC di attuazione delle Direttive n. 51/2003 e 65/2001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MODIFICAZIONI CODICISTICHE PROPOS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E IL PROGETTO SME ELABORATO DALLO IA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43D11F95-C09F-422B-B791-E12DE1D8A538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8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 Origini e motivazio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 Le scelte di fon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ts val="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Direttive UE e la loro attuazione in Ita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RAFFRONTO TRA IL PROGETTO IASB/SMEs 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nterferenze – Coesistenz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GLI SCENARI POSSIBI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 </a:t>
            </a:r>
            <a:fld id="{1371BE28-353E-4555-9540-83E949DC1BCE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5428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e Motivazioni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’inventario IFAC del 2000: il 99% delle imprese s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sia nei paesi sviluppati che in quelli in via di svilup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rasferire IAS/IFRS per “fotocopia” alle SMEs è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mpensabile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95FE8827-9C73-4DD2-9612-7EAB5280F1FB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68680" indent="-50652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 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Scelte di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gine: 200 contro 1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o “qualità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.I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.P.A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scluse le micro-entities (50 dipendent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D5A37552-C47D-4516-A0EC-3E1F7637F4BB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-60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   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Direttive UE e la loro attuazione in Ital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e Direttive UE 2001/65 e  2003/5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e ipotesi di attuazione predisposte dall’O.I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rinv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7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6553D379-F79E-47C4-89FA-4CA92779E6AC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3"/>
              <a:tabLst>
                <a:tab algn="l" pos="79056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RAFFRONTO TRA IL PROGETTO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ASB/SMEs E IL QUADRO NORM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TAL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Interferenz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Destinatari – Merca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Coesist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Duplicazio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021DC346-6108-4059-9BC1-472D4AC3B28C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9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-573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4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GLI SCENARI POSSIB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ormativa e utilizzo volontario del sistema IASB/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 altern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 obbligatorio del sistema IASB/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“Micro – Entiti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Progetti in corso – Ruolo O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ERSE</cp:lastModifiedBy>
  <dcterms:modified xsi:type="dcterms:W3CDTF">2007-06-18T15:21:37Z</dcterms:modified>
  <cp:revision>76</cp:revision>
  <dc:subject/>
  <dc:title>Presentazione di PowerPoint</dc:title>
</cp:coreProperties>
</file>