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niparthenope.it/rettorato/logo.htm" TargetMode="External"/><Relationship Id="rId3" Type="http://schemas.openxmlformats.org/officeDocument/2006/relationships/hyperlink" Target="http://80.207.146.178/default.htm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 rot="16200000">
            <a:off x="6032520" y="3371760"/>
            <a:ext cx="594972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Palatino Linotype"/>
              </a:rPr>
              <a:t>Prof. Eugenio Pinto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6200000">
            <a:off x="-2923200" y="3608640"/>
            <a:ext cx="61722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Opzioni e scelte in tema di criteri di valutazio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260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12600" y="1671480"/>
            <a:ext cx="9169200" cy="747720"/>
            <a:chOff x="-12600" y="1671480"/>
            <a:chExt cx="9169200" cy="747720"/>
          </a:xfrm>
        </p:grpSpPr>
        <p:sp>
          <p:nvSpPr>
            <p:cNvPr id="4" name=""/>
            <p:cNvSpPr/>
            <p:nvPr/>
          </p:nvSpPr>
          <p:spPr>
            <a:xfrm>
              <a:off x="-12600" y="1671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12600" y="1671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12600" y="1671480"/>
              <a:ext cx="916920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it-IT" sz="4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" descr="OI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000" y="0"/>
            <a:ext cx="116532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2133720"/>
            <a:ext cx="7010280" cy="19501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latino Linotype"/>
              </a:rPr>
              <a:t>Opzioni e scelte in tema di criteri di valutazione</a:t>
            </a: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Palatino Linotype"/>
              </a:rPr>
              <a:t>Ipotesi di attuazione direttive UE 2001/65 e 2003/51 con modifiche al C.C. e al D.Lgs. 127/9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8400" y="5073480"/>
            <a:ext cx="894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Versioni approvate dal Comitato Esecutivo OIC del 25 giugno 2006 e del 29 marzo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380880"/>
            <a:ext cx="792468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Palatino Linotype"/>
              </a:rPr>
              <a:t>Convegno O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Palatino Linotype"/>
              </a:rPr>
              <a:t>“</a:t>
            </a:r>
            <a:r>
              <a:rPr b="1" i="1" lang="en-US" sz="2000" spc="-1" strike="noStrike">
                <a:solidFill>
                  <a:srgbClr val="800000"/>
                </a:solidFill>
                <a:latin typeface="Palatino Linotype"/>
              </a:rPr>
              <a:t>Le modifiche della disciplina codicistica del bilancio di esercizio: il progetto OIC di attuazione delle direttive nn. 51/2003 e 65/200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905120" y="203040"/>
            <a:ext cx="6248160" cy="70164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4. Partecipazioni in imprese controllate, collegate o 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joint venture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046160"/>
            <a:ext cx="8305920" cy="48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Questa categoria, in alternativa 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criterio del costo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previsto dall’art. 2426, comma 1,  può essere iscritta secon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il metodo del patrimonio netto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(art. 2426, comma 5), cioè rettificando il costo dell’ammontare delle variazioni della frazione di patrimonio netto corrispondente alla quota di partecipazione, a condizione – si tratta di un’innovazione - che tale metodo sia applica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a tutte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le partecipazioni di ciascuna delle categor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Se all’atto dell’acquisto il valore di costo è superiore alla corrispondente frazione del patrimonio netto della partecipata, l’iscrizione della differenza iniziale va motivata nella nota integrativa e, per la parte attribuibile a beni ammortizzabili e ad avviamento, va ammortizz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1143000"/>
            <a:ext cx="830592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Se all’atto dell’acquisto il valore di costo è inferiore alla corrispondente frazione del patrimonio netto della partecipata, la partecipazione è iscritta a a tale minor val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Negli esercizi successivi, la quota corrispondente alla percentuale di partecipazione nella partecipata, operate le rettifiche richieste dai principi di redazione del bilancio consolida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viene imputata al conto economico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(non è più consentito alcun trattamento alternativ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a quota delle altre variazioni è imputata direttament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al patrimonio netto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I dividendi ricevuti dalla partecipata riducono il valore contabile della partecipazi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’eccedenza del valore della partecipazione valutata col metodo del patrimonio netto rispetto al valore di costo va accantonata in una riserva non distribuib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203040"/>
            <a:ext cx="6248160" cy="70164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4. Partecipazioni in imprese controllate, collegate o 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joint venture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828800" y="203040"/>
            <a:ext cx="6324480" cy="396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5. Altre attività finanziarie non corr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960" y="762120"/>
            <a:ext cx="828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Palatino Linotype"/>
              </a:rPr>
              <a:t>5.A Quote di partecip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052640"/>
            <a:ext cx="830592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e quote di partecipazione non correnti, diverse da quelle di controllo, di collegamento e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joint venture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, iscritte nelle voce altre attività finanziarie sono iscritt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al costo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, ridotto in caso di perdite durevoli di valore  o, in alternativa, 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valore equo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fair valu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),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a condizione che quest’ultimo venga applicato all’intera categoria (art. 2426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-bis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, comma 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Nel caso in cui le quote di partecipazione siano valutate al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fair value,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le variazioni del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fair valu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 sono imputate a specifica posta, positiva o negativa di patrimonio netto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Al momento del realizzo il corrispondente importo è imputato al conto economico (art. 2426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-bis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, comma 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a perdita durevole di valore va imputata nel conto economico solo dopo aver azzerato la relativa riserva: “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previo storno della parte della voce di patrimonio netto ad essa correlata”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80960" y="762120"/>
            <a:ext cx="828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Palatino Linotype"/>
              </a:rPr>
              <a:t>5.B Altri strumenti finanzi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203040"/>
            <a:ext cx="6324480" cy="396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6. Altre attività finanziarie non corr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990720"/>
            <a:ext cx="8305920" cy="57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Gli altri strumenti finanziari non correnti seguono criteri di valutazione parzialmente diversi a seconda che siano detenuti per la negoziazione o disponibili per la vend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In entrambi i casi, vengono iscritt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al minore tra costo ammortizzato e valore di mercato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o, in alternativa a tale criterio, possono esser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iscritti al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fair valu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a condizione che questo criterio sia applicato all’intera catego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Tuttavia, nel caso di applicazione del criterio del 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fair value,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le variazioni positive o negative di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fair valu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degli strumenti detenut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per la negoziazion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sono imputate a conto economico, mentre quel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degli strumenti disponibili per la vendita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sono imputate a una specifica posta, positiva o negativa, d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patrimonio netto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. Al momento del realizzo il corrispondente importo è imputato al 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conto economico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3520" y="14130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La perdita durevole di valore relativa a strumenti disponibili per la vendita va imputata nel conto economico solo dopo aver azzerato la relativa riserva: “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previo storno della parte della voce di patrimonio netto ad essa correlata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203040"/>
            <a:ext cx="6324480" cy="396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5. Altre attività finanziarie non corr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960" y="928800"/>
            <a:ext cx="828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Palatino Linotype"/>
              </a:rPr>
              <a:t>5.B Altri strumenti finanzi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828800" y="203040"/>
            <a:ext cx="6324480" cy="396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6. Altre attività finanziarie corr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700280"/>
            <a:ext cx="7777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er questa categoria valgono le considerazioni già svolte con riferimento agli altri strumenti finanziari non corren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8080" y="2971800"/>
            <a:ext cx="7620120" cy="70128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latino Linotype"/>
              </a:rPr>
              <a:t>B) Modifiche al D.Lgs. 127/9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1828800"/>
            <a:ext cx="7086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828800" y="203040"/>
            <a:ext cx="6324480" cy="396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1. Partecipazioni non consoli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1413000"/>
            <a:ext cx="83059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Le partecipazioni in imprese controllate escluse dal consolidamento ai sensi del primo comma dell’art. 28 lettere a), b) e c) possono essere valutate alternativamente secondo uno dei due seguenti criter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il metodo del cos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il metodo del patrimonio netto (art. 2426, n. 5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3079800"/>
            <a:ext cx="7620120" cy="70128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latino Linotype"/>
              </a:rPr>
              <a:t>A) Modifiche al Codice Civ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828800"/>
            <a:ext cx="7086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0200" y="304920"/>
            <a:ext cx="7010280" cy="70128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latino Linotype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828800"/>
            <a:ext cx="7086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447920"/>
            <a:ext cx="800100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Palatino Linotyp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Palatino Linotype"/>
              </a:rPr>
              <a:t>Modifiche al Codice Civ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A.1.) Quadro sinottico delle opzioni di valuta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Attività non correnti materiali ed immaterial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Investimenti immobiliar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Partecipazioni in imprese controllate, collegate e </a:t>
            </a:r>
            <a:r>
              <a:rPr b="0" i="1" lang="en-US" sz="2000" spc="-1" strike="noStrike">
                <a:solidFill>
                  <a:srgbClr val="800000"/>
                </a:solidFill>
                <a:latin typeface="Palatino Linotype"/>
              </a:rPr>
              <a:t>joint venture</a:t>
            </a: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Altre attività finanziarie non corren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Altre attività finanziarie corre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Palatino Linotype"/>
              </a:rPr>
              <a:t>B) Modifiche al D.lgs. 127/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Partecipazioni non consoli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380880"/>
            <a:ext cx="518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52280"/>
            <a:ext cx="7315200" cy="396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A.1) Quadro sinottico delle opzioni di valu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157400" y="1339560"/>
            <a:ext cx="50328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143000" y="1339920"/>
            <a:ext cx="14400" cy="4680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157400" y="1987560"/>
            <a:ext cx="503280" cy="7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157400" y="2923920"/>
            <a:ext cx="50328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157400" y="4381200"/>
            <a:ext cx="50328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1752480"/>
            <a:ext cx="1828800" cy="541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2. IMMATERI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066680"/>
            <a:ext cx="1828800" cy="541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1. MATERI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2666880"/>
            <a:ext cx="1752480" cy="541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3. INVESTIM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IMMOBILI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1066680"/>
            <a:ext cx="1295640" cy="541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90840" y="3971880"/>
            <a:ext cx="1981080" cy="7700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4. PARTECIPAZION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in controllate, colle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o </a:t>
            </a:r>
            <a:r>
              <a:rPr b="0" i="1" lang="en-US" sz="1400" spc="-1" strike="noStrike">
                <a:solidFill>
                  <a:srgbClr val="ffffff"/>
                </a:solidFill>
                <a:latin typeface="Palatino Linotype"/>
              </a:rPr>
              <a:t>joint ven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143000" y="6019560"/>
            <a:ext cx="50328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66800" y="5638680"/>
            <a:ext cx="1990800" cy="789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5. ALTRE ATTIVITA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FINANZIARI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NON CORR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1295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1295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1295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2066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05200" y="1790640"/>
            <a:ext cx="1305000" cy="495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Palatino Linotype"/>
              </a:rPr>
              <a:t>FAI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2362320"/>
            <a:ext cx="1295640" cy="465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3086280"/>
            <a:ext cx="1362240" cy="5410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Palatino Linotype"/>
              </a:rPr>
              <a:t>FAI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3763800"/>
            <a:ext cx="1295640" cy="4654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3992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3992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4495680"/>
            <a:ext cx="1981440" cy="5335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METODO DEL P.N</a:t>
            </a:r>
            <a:r>
              <a:rPr b="0" i="1" lang="en-US" sz="14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4754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43718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19920" y="1600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838080"/>
            <a:ext cx="2057400" cy="13716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Se FV 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&gt;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I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va iscritto in 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riserva non distribui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se non in misu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corrispond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l valore recup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2349360"/>
            <a:ext cx="2563920" cy="14605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Se valutati al fair value 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sono soggetti ad ammort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I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</a:t>
            </a: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di </a:t>
            </a:r>
            <a:r>
              <a:rPr b="0" i="1" lang="en-US" sz="1200" spc="-1" strike="noStrike">
                <a:solidFill>
                  <a:srgbClr val="ffffff"/>
                </a:solidFill>
                <a:latin typeface="Palatino Linotype"/>
              </a:rPr>
              <a:t>fair value</a:t>
            </a: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 van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iscritti nel 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Le perdite di val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vanno iscrit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anche se non durevo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3352680"/>
            <a:ext cx="20484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838080"/>
            <a:ext cx="2057400" cy="13716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Se FV 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&gt;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I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va iscritto in 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riserva non distribui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se non in misu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corrispond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l valore recup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4419720"/>
            <a:ext cx="198144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Il criterio va applica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 tutta la categ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5362560"/>
            <a:ext cx="1828800" cy="541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5.A QUOTE 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PARTECIP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5638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5638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6019920"/>
            <a:ext cx="2152800" cy="7142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5.B ALTRI STRUM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FINANZI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(vedi la </a:t>
            </a:r>
            <a:r>
              <a:rPr b="0" i="1" lang="en-US" sz="1400" spc="-1" strike="noStrike">
                <a:solidFill>
                  <a:srgbClr val="ffffff"/>
                </a:solidFill>
                <a:latin typeface="Palatino Linotype"/>
              </a:rPr>
              <a:t>slide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successiv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601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5686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5419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6172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43640" y="5181480"/>
            <a:ext cx="1692360" cy="6098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COS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ridotto per perdi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durev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43640" y="5867280"/>
            <a:ext cx="171000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FAIR VAL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I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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di </a:t>
            </a:r>
            <a:r>
              <a:rPr b="0" i="1" lang="en-US" sz="1400" spc="-1" strike="noStrike">
                <a:solidFill>
                  <a:srgbClr val="ffffff"/>
                </a:solidFill>
                <a:latin typeface="Palatino Linotype"/>
              </a:rPr>
              <a:t>fair value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van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iscritti nel P.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380880" y="1676520"/>
            <a:ext cx="533520" cy="358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TTIVITA’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NON CORR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914400" y="3504960"/>
            <a:ext cx="22860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V="1">
            <a:off x="4495680" y="152352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914400"/>
            <a:ext cx="6248520" cy="6094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ALTRI STRUMENTI FINANZI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NON CORRENTI ED ALTRE ATTIVITA’ FINANZIARIE CORR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523880" cy="12099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Minore tra 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valore di merc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2286000"/>
            <a:ext cx="2209680" cy="6094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DETENU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PER LA NEGOZI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4943520"/>
            <a:ext cx="163836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di </a:t>
            </a:r>
            <a:r>
              <a:rPr b="0" i="1" lang="it-IT" sz="1400" spc="-1" strike="noStrike">
                <a:solidFill>
                  <a:srgbClr val="ffffff"/>
                </a:solidFill>
                <a:latin typeface="Palatino Linotype"/>
              </a:rPr>
              <a:t>fair value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vanno iscrit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nel C.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182880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438280" y="18288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81680" y="18288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86560" y="2266920"/>
            <a:ext cx="2209680" cy="6094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DISPONIBIL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PER LA VEND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438280" y="289512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3200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143000" y="32000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657600" y="32000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3505320"/>
            <a:ext cx="137160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Palatino Linotype"/>
              </a:rPr>
              <a:t>Fai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4419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3495600"/>
            <a:ext cx="1523880" cy="12956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Minore tra 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valore di merc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4943520"/>
            <a:ext cx="160020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di </a:t>
            </a:r>
            <a:r>
              <a:rPr b="0" i="1" lang="it-IT" sz="1400" spc="-1" strike="noStrike">
                <a:solidFill>
                  <a:srgbClr val="ffffff"/>
                </a:solidFill>
                <a:latin typeface="Palatino Linotype"/>
              </a:rPr>
              <a:t>fair value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vanno iscrit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nel P.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743880" y="2895120"/>
            <a:ext cx="144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3200400"/>
            <a:ext cx="2324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638320" y="3209400"/>
            <a:ext cx="180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962480" y="3200040"/>
            <a:ext cx="180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91360" y="3505320"/>
            <a:ext cx="148608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Palatino Linotype"/>
              </a:rPr>
              <a:t>Fai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62840" y="4419720"/>
            <a:ext cx="1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228600"/>
            <a:ext cx="7238880" cy="70164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A.1) Quadro sinottico delle opzioni di valutazione (seg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05120" y="228600"/>
            <a:ext cx="6248160" cy="70164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1. Attività non correnti materiali ed im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041480"/>
            <a:ext cx="830592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Costituiscono immobilizzazioni le attività non correnti destinate ad essere durevolmente utilizzate nell’esercizio dell’attività di impresa (art. 2424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-bis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, comma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Le attività sono iscritte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al costo di acquisto o di produzion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. Nel costo di acquisto vanno considerati anche gli oneri accessori. Il costo di acquisto comprende tutti i costi direttamente imputabili al prodotto e può comprendere, per la quota ragionevolmente imputabile al prodotto, altri costi relativi al periodo di fabbricazione, ivi inclusi gli oneri finanziari (art. 2426, comma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Il costo delle immobilizzazioni materiali e immateriali la cui durata è limitata nel tempo deve essere sistematicamente ammortizzato in ogni esercizio in relazione con la residua possibilità di utilizzazione dei componenti di ciascuna immobilizzazione (art. 2426, comma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914400"/>
            <a:ext cx="830592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Le immobilizzazioni materiali ed immateriali che alla data di chiusura risultino durevolmente di valore inferiore al costo vanno iscritte a tale minor valore; questo non può essere mantenuto se sono venuti meno i motivi della rettifica (art. 2426, comma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Le immobilizzazioni materiali ed immateriali possono essere iscritte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al valore equo (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fair value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a condizione che il valore equo possa essere determinato in modo attendibile e che tale criterio venga applicato a tutti i componenti della medesima categoria (art. 2426, comma 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Se il valore equo è superiore a quello derivante dall’applicazione del criterio del costo, la differenza va direttamente imputata ad una riserva, non distribuibile se non in misura corrispondente al valore recuperato. A tale riserva si imputano, fino al suo esaurimento, le successive riduzioni durevoli di valore (art. 2426, comma 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28600"/>
            <a:ext cx="6248160" cy="70164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1. Attività non correnti materiali ed im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838080"/>
            <a:ext cx="8305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’ammortamento si calcola sul valore equo dell’esercizio precedente e va imputato al conto economico (art. 2426, comma 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857240"/>
            <a:ext cx="8153280" cy="45990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N.B.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Vi è da dire che, secondo il testo proposto dall’OIC, nulla viene affermato, in caso di applicazione del criterio del 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fair value,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con riferimento al trattamento contabile da riservare agli incrementi di 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fair valu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delle immobilizzazioni materiali ed immateriali nella misura in cui essi annullino una svalutazione rilevata precedentemente in conto econo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Nel silenzio della norma è ipotizzabile che il trattamento contabile da seguire sia quello previsto dallo IAS 16 che prevede quanto seg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Palatino Linotype"/>
              </a:rPr>
              <a:t>Rivalutazioni in seguito a rideterminazione</a:t>
            </a:r>
            <a:r>
              <a:rPr b="0" lang="it-IT" sz="1800" spc="-1" strike="noStrike">
                <a:solidFill>
                  <a:srgbClr val="3333cc"/>
                </a:solidFill>
                <a:latin typeface="Palatino Linotype"/>
              </a:rPr>
              <a:t>: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l’incremento deve esser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rilevato in conto economico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nella misura in cui esso annulla una svalutazione rilevata precedentemente in conto econo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228600"/>
            <a:ext cx="6248160" cy="70164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1. e 2.  Attività non correnti materiali ed im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905120" y="203040"/>
            <a:ext cx="6248160" cy="396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3. Investimenti immobili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914400"/>
            <a:ext cx="830592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Anche questa categoria, in alternativ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al criterio del costo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previsto dall’art. 2426, comma 1,  può essere iscritta al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valore equo (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fair value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(art. 2426, comma 1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In tal caso, i terreni ed i fabbricati non sono soggetti ad ammortamento e le variazioni di 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fair valu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verificatesi nell’esercizi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vanno iscritte nel conto economic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4343400"/>
            <a:ext cx="8381880" cy="18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Le perdite di valore, in caso di applicazione del criterio del 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fair valu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vanno iscritte anche se il minor valore non risulti durevo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La nota integrativa deve indicare per categorie i beni ai quali è applicato il criterio del valore equo, i metodi utilizzati per determinarli e l’effetto della sua applicazione sul risultato econo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2360" y="2971800"/>
            <a:ext cx="8153280" cy="162684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N.B.</a:t>
            </a:r>
            <a:r>
              <a:rPr b="1" lang="it-IT" sz="1800" spc="-1" strike="noStrike">
                <a:solidFill>
                  <a:srgbClr val="000000"/>
                </a:solidFill>
                <a:latin typeface="Palatino Linotype"/>
              </a:rPr>
              <a:t> E i delta tra </a:t>
            </a:r>
            <a:r>
              <a:rPr b="1" i="1" lang="it-IT" sz="1800" spc="-1" strike="noStrike">
                <a:solidFill>
                  <a:srgbClr val="000000"/>
                </a:solidFill>
                <a:latin typeface="Palatino Linotype"/>
              </a:rPr>
              <a:t>fair value</a:t>
            </a:r>
            <a:r>
              <a:rPr b="1" lang="it-IT" sz="1800" spc="-1" strike="noStrike">
                <a:solidFill>
                  <a:srgbClr val="000000"/>
                </a:solidFill>
                <a:latin typeface="Palatino Linotype"/>
              </a:rPr>
              <a:t> e costo?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Anche in questo caso, in assenza di una esplicita previsione, è ipotizzabile che seguano il criterio applicato per la variazioni di 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fair valu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e che dunqu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vadano iscritte nel conto economico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09:08:20Z</dcterms:created>
  <dc:creator>Eugenio Pinto</dc:creator>
  <dc:description/>
  <dc:language>en-US</dc:language>
  <cp:lastModifiedBy>eugenio.pinto</cp:lastModifiedBy>
  <dcterms:modified xsi:type="dcterms:W3CDTF">2007-06-21T11:23:45Z</dcterms:modified>
  <cp:revision>1316</cp:revision>
  <dc:subject/>
  <dc:title>Presentazione di PowerPoint</dc:title>
</cp:coreProperties>
</file>